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31.wmf" ContentType="image/x-wmf"/>
  <Override PartName="/ppt/media/image4.png" ContentType="image/png"/>
  <Override PartName="/ppt/media/image12.wmf" ContentType="image/x-wmf"/>
  <Override PartName="/ppt/media/image32.wmf" ContentType="image/x-wmf"/>
  <Override PartName="/ppt/media/image33.wmf" ContentType="image/x-wmf"/>
  <Override PartName="/ppt/media/image35.wmf" ContentType="image/x-wmf"/>
  <Override PartName="/ppt/media/image36.wmf" ContentType="image/x-wmf"/>
  <Override PartName="/ppt/media/image13.wmf" ContentType="image/x-wmf"/>
  <Override PartName="/ppt/media/image5.png" ContentType="image/png"/>
  <Override PartName="/ppt/media/image37.wmf" ContentType="image/x-wmf"/>
  <Override PartName="/ppt/media/image8.wmf" ContentType="image/x-wmf"/>
  <Override PartName="/ppt/media/image38.wmf" ContentType="image/x-wmf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3888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948000"/>
            <a:ext cx="4160880" cy="365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438880" y="6948000"/>
            <a:ext cx="4160880" cy="365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7F235-44C3-4B34-A3D3-1E3D5D04F0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8CA44-B9BD-4340-8E57-9BD3D410A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7846-26D3-427E-A5AB-BE3509737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9C65-17C7-4D4C-9A68-197DC530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1A84-D3CE-49B9-9371-7C3392052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135A-40F9-44E0-98D1-AADFBF5C4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43E8-25DF-430B-8D21-A18E0233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3AA1-0052-4B28-A7B2-D3BF2AEC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10FB-3724-44E5-847F-3E609BB7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F223-B8FD-4051-8E0B-37CCCE7E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7AF8-1783-45D2-8ED5-B64CB26E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2892-1800-41F8-8689-252B5516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AD62-8A66-4E02-85B0-B6A6B478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8735-C477-41DD-A424-D6934019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EA8A-B58C-439D-887E-05004CA51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roduction t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al Equation Mode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289548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ith F. Widam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uate School of Edu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Qua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201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1638-5BB6-40E0-87D0-3AEDEEEDB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EM Termi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nifes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(or measured) variables, with scores you can “get your hands 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structure to be mode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ten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bserved (i.e., unmeasured)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ed by covariances among manifest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of formally stating 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4293-131E-49F8-BAA8-5B0078A88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(1939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 fits pretty well, bu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factor loading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fit is not opt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LI &lt; .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FI &lt; .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SEA &gt; .05, lower limit does not include .05, so probability of close fit suggests rejecting close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cation indices – two large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ing of sccaps on Spatial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ed uniqueness between addition and countd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16DD-169E-4D45-82A0-339A62918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add 1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s.model2 =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loadings of MVs on LVs in Lambda (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 =~ visperc  + cubes    + lozeng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  =~ paracomp + sentcomp + word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=~ addition + countdot + scc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 =~ sccaps                   # added lo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t2 = cfa(hs.model2, data = hs39ra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mmary(fit2, fit.measures = TRUE, standardized = TR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spect(fit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I2 = modificationIndices(fit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et(MI2, mi &gt;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FB1A-AB76-4870-9928-F5E2D00FB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65D6-B776-494C-BBC6-92209BA7A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5.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.3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9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71, .11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.042, .08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1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9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4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6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4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9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tent Variables: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=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isperc           1.000                               5.308    0.7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bes             0.385    0.065    5.918    0.000    2.046    0.4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zenges          1.005    0.138    7.291    0.000    5.333    0.5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=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acomp          1.000                               2.967    0.8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tcomp          1.487    0.087   17.016    0.000    4.411    0.8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mean          2.162    0.130   16.685    0.000    6.414    0.8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ition          1.000                              15.319    0.6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dot          1.050    0.161    6.540    0.000   16.083    0.7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caps            1.057    0.175    6.037    0.000   16.195    0.4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=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caps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2.623    0.489    5.367    0.000   13.921    0.3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~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           7.127    1.294    5.506    0.000    0.453    0.4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        24.463    7.552    3.239    0.001    0.301    0.3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         9.377    3.505    2.675    0.007    0.206    0.2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2713-C97B-4F5A-BE79-9D5645B01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I2 = modificationIndices(fit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subset(MI2, mi &gt; 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hs op      rhs    mi     epc sepc.lv sepc.all sepc.n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7  spatial =~ sentcomp 6.079  -0.127  -0.673   -0.131   -0.1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9  spatial =~ addition 6.030  -0.923  -4.900   -0.196   -0.1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0  spatial =~ countdot 6.030   0.969   5.144    0.254    0.2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1   verbal =~  visperc 8.438   0.571   1.695    0.242    0.2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3   verbal =~ lozenges 8.167  -0.629  -1.865   -0.207   -0.2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1    cubes ~~ lozenges 6.395   5.742   5.742    0.135    0.1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5    cubes ~~ addition 7.060 -14.481 -14.481   -0.123   -0.1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9 lozenges ~~ sentcomp 8.640  -4.318  -4.318   -0.093   -0.0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5 paracomp ~~ wordmean 5.249  -4.565  -4.565   -0.171   -0.1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6 paracomp ~~ addition 7.835   7.608   7.608    0.087    0.0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B81A-2271-47C0-83A8-5930E31C9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(1939)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 fairly good fit, but could be im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2 has generally good, rather close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emaining modification indices were &gt;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3 an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ru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anded 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 for ‘cfa’ command in lav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4 for ‘lavaan’ command in lav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3 and 4 are same as Model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607F-C8FD-434E-9523-B59751743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data: Model 2, standardized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8F34-76C8-4A5C-AF9E-8DCC4FCC4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Picture 4" descr=""/>
          <p:cNvPicPr/>
          <p:nvPr/>
        </p:nvPicPr>
        <p:blipFill>
          <a:blip r:embed="rId1"/>
          <a:stretch/>
        </p:blipFill>
        <p:spPr>
          <a:xfrm>
            <a:off x="750960" y="2057400"/>
            <a:ext cx="7642080" cy="38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(2004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56 (very small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rt attack survivors (all m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a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ency (3 &amp; 6 months post ev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memory (3 &amp; 6 months post ev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tion memory (3 &amp; 6 months post ev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EDF2-5CC1-44B8-8664-BB485B4B2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(2004) data: Hypothese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: Single-Process Model: Are recall and recognition memory served by a single underlying process of Declarative Mem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2: Dual-Process Recall: Is recall supported by two processes: Controlled Search (which supports fluency) and Declarative Mem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: Dual-Process Recognition: Is recognition supported by two processes: Recollection and Familiarity, the former of which supports rec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4: Is a hybrid three-process model an improvement on Model 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8D48-0B04-482D-AEC2-44A5A7241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Model 1 – single memory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C71C-986F-489A-B3A7-4AFE304C2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4" descr=""/>
          <p:cNvPicPr/>
          <p:nvPr/>
        </p:nvPicPr>
        <p:blipFill>
          <a:blip r:embed="rId1"/>
          <a:stretch/>
        </p:blipFill>
        <p:spPr>
          <a:xfrm>
            <a:off x="838080" y="1747800"/>
            <a:ext cx="746784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EM Terminology 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soci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 (or bi-) directional (reciprocal) relation between two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rect eff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-) directional (non-reciprocal) relation between two variables, such as IV and D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direct eff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 of an IV on a DV through one or more intervening (or mediating)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tal eff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of direct and indirect effects of an IV on a D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D0B2-C09C-4A93-A025-989FBB81A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Model 2 – dual-process re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67BE-7DFB-4991-98AB-AC1A40F8F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2" descr=""/>
          <p:cNvPicPr/>
          <p:nvPr/>
        </p:nvPicPr>
        <p:blipFill>
          <a:blip r:embed="rId1"/>
          <a:stretch/>
        </p:blipFill>
        <p:spPr>
          <a:xfrm>
            <a:off x="855720" y="1763640"/>
            <a:ext cx="7432560" cy="44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Model 3 – dual-process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476A-DC94-4ABE-96B5-0601A0C23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2" descr=""/>
          <p:cNvPicPr/>
          <p:nvPr/>
        </p:nvPicPr>
        <p:blipFill>
          <a:blip r:embed="rId1"/>
          <a:stretch/>
        </p:blipFill>
        <p:spPr>
          <a:xfrm>
            <a:off x="901800" y="1660680"/>
            <a:ext cx="7340400" cy="50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Model 4 – hybrid three-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B747-6123-4F34-8F64-B1E7D7ECF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2" descr=""/>
          <p:cNvPicPr/>
          <p:nvPr/>
        </p:nvPicPr>
        <p:blipFill>
          <a:blip r:embed="rId1"/>
          <a:stretch/>
        </p:blipFill>
        <p:spPr>
          <a:xfrm>
            <a:off x="870120" y="1650960"/>
            <a:ext cx="7403760" cy="50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(2004) dat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sample size leads to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whit, low power to “tell us we are wro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ke parallel test constraint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 loa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 var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pay attention to whether model modifications lead to significant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1163-2DA8-41F4-8CC8-BFCE77D47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single-proces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q.model1.gen = '# loadings of MVs on LVs in Lambda (L)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=~ NA*agey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=~ NA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 =~ start(11.1)*L01*fluen1 + start(11.1)*L01*flue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 =~ start(3.26)*L03*recal1 + start(3.26)*L03*recal2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(2.50)*L05*recog1 + start(2.50)*L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 =~ start(1.14)*L07*recal1 + start(1.14)*L07*recog1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for now, this is a covariance structure model, so no me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~~ 0*ageyrs     ;  comadur ~~ 0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~~ T01*fluen1   ;  fluen2  ~~ T01*flue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~~ T03*recal1   ;  recal2  ~~ T03*reca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~~ T05*recog1   ;  recog2  ~~ T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C056-FF7C-4D61-A319-68E29C704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single-proces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~~ 1*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~~ 1*c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0.963*con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~~ 0.706*decl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1*dis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~~ 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0*age ; contr ~~ 0*coma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~~ 0*age ; declr ~~ 0*coma ; declr ~~ con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0*age ; disru ~~ 0*coma ; disru ~~ 0*contr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0*decl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  start(-.19)*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~  start(-.40)*age + start(-.40)*c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6BB6-6B59-4522-99F9-416B19417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BAC7-79A3-42FC-8905-1795BEE38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6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.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2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4, .18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0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tent Variables: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=~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          11.664    1.102   10.583    0.000   11.664    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=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dur          16.907    1.598   10.583    0.000   16.907    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  (L01)  -11.209    1.177   -9.521    0.000  -11.209   -0.9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2   (L01)  -11.209    1.177   -9.521    0.000  -11.209   -0.9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  (L03)    3.264    0.364    8.970    0.000    3.260    0.8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2   (L03)    3.264    0.364    8.970    0.000    3.260    0.9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5)    2.444    0.322    7.587    0.000    2.442    0.7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2   (L05)    2.444    0.322    7.587    0.000    2.442    0.7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  (L07)    1.172    0.354    3.315    0.001    1.172    0.3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7)    1.172    0.354    3.315    0.001    1.172    0.3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7540-3B80-4AA9-9F36-55B5B0633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           0.192    0.141    1.369    0.171    0.192    0.1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          -0.397    0.135   -2.945    0.003   -0.398   -0.3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          -0.445    0.131   -3.405    0.001   -0.445   -0.4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~~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          -0.180    0.129   -1.392    0.164   -0.180   -0.1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           -0.343    0.105   -3.250    0.001   -0.416   -0.4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494A-FF10-4630-B859-33F82C791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I1 = modificationIndices(fit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subset(MI1, mi &gt; 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hs op     rhs     mi    epc sepc.lv sepc.all sepc.n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9    disru =~ comadur  6.233  8.817   8.817    0.522    0.5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84  comadur ~~  recal2  5.001 -9.559  -9.559   -0.158   -0.1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96   recal1 ~~  recal2 10.221  3.076   3.076    0.227    0.2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98   recal1 ~~  recog2  5.114 -1.337  -1.337   -0.112   -0.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99   recal2 ~~  recog1  5.620 -1.567  -1.567   -0.130   -0.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ecog1 ~~  recog2 20.70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.127   3.127    0.293    0.2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60B2-7ED5-4958-A10E-20153EECD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6002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th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C7C4-3995-4CC6-9753-CCA781D5B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1-process re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q.model2.gen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=~ start(11.6)*agey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=~ start(16.9)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 =~ start(11.1)*L01*fluen1 + start(11.1)*L01*fluen2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start(-0.2)*L09*recal1 + start(-0.2)*L09*reca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 =~ start(3.26)*L03*recal1 + start(3.26)*L03*recal2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(2.50)*L05*recog1 + start(2.50)*L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 =~ start(1.14)*L07*recal1 + start(1.14)*L07*recog1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for now, this is a covariance structure model, so no me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~~ 0*ageyrs     ;  comadur ~~ 0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~~ T01*fluen1   ;  fluen2  ~~ T01*flue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~~ T03*recal1   ;  recal2  ~~ T03*reca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~~ T05*recog1   ;  recog2  ~~ T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C68E-EEE6-4476-99D1-75D0DF3E4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32D1-29C3-4F3F-B2CF-DB013F27C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.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2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4, .18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9, .19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0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89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1-process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q.model3.gen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=~ start(11.6)*agey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=~ start(16.9)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 =~ start(11.1)*L01*fluen1 + start(11.1)*L01*fluen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reco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=~ start(3.26)*L03*recal1 + start(3.26)*L03*recal2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(2.50)*L05*recog1 + start(2.50)*L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famil  =~ start(1.70)*L09*recog1 + start(1.70)*L09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 =~ start(1.14)*L07*recal1 + start(1.14)*L07*recog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for now, this is a covariance structure model, so no me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~~ 0*ageyrs     ;  comadur ~~ 0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~~ T01*fluen1   ;  fluen2  ~~ T01*flue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~~ T03*recal1   ;  recal2  ~~ T03*reca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~~ T05*recog1   ;  recog2  ~~ T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1D43-99F8-46E5-8A2D-6C49AF3D8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1-process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~~ 1*age                coma  ~~ 1*c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0.963*contr          recol ~~ 0.689*re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 ~~ 1*famil              disru ~~ 1*dis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~~ 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0*age ; contr ~~ 0*coma 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~~ 0*age ; recol ~~ 0*coma  ; recol ~~ con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 ~~ 0*age ; famil ~~ 0*coma  ; famil ~~ 0*contr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 ~~ 0*re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0*age ; disru ~~ 0*coma  ; disru ~~ 0*contr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0*recol ; disru ~~ 0*famil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  start(-.19)*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~  start(-.40)*age + start(-.40)*c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F41B-1393-4243-BEA4-2E9B88215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2766-B74A-4E99-891A-628D532D7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8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.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6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2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4, .18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9, .19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00, .095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0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89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1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5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2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tent Variab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=~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          11.664    1.102   10.583    0.000   11.664    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=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dur          16.907    1.598   10.583    0.000   16.907    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  (L01)   11.209    1.177    9.521    0.000   11.209    0.9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2   (L01)   11.209    1.177    9.521    0.000   11.209    0.9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  (L03)    3.331    0.360    9.253    0.000    3.331    0.8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2   (L03)    3.331    0.360    9.253    0.000    3.331    0.9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5)    2.300    0.359    6.413    0.000    2.300    0.6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2   (L05)    2.300    0.359    6.413    0.000    2.300    0.7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9)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1.739    0.233    7.455    0.000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.739    0.5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2   (L09)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1.739    0.233    7.455    0.000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.739    0.5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  (L07)    1.481    0.246    6.017    0.000    1.481    0.3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7)    1.481    0.246    6.017    0.000    1.481    0.4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9777-065B-4932-8869-1CB3BA69B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          -0.192    0.141   -1.369    0.171   -0.192   -0.1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          -0.406    0.133   -3.054    0.002   -0.406   -0.4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          -0.463    0.129   -3.584    0.000   -0.463   -0.4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~~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          -0.180    0.129   -1.392    0.164   -0.180   -0.1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            0.346    0.102    3.385    0.001    0.425    0.4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 – no modification indices &gt; 5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ce, no need to add additional parameters to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D625-CE0C-4F36-A157-1C2E4E394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(2004)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 is the optim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memory relies on Re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tion relies on Recollection and Famili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llection declines as function of Age and Coma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iarity unaffected by Age and Coma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 of LVs of Recollection and Familiarity could only be done with 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EC9E-1D39-4E22-94B8-889A7482B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tion to SEM: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general overview of SEM approach to aligning conjectures with statistica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intro to evaluating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fit: Overall and part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t indices: Statistical and prac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rmation facto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variable path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st you can see glimmerings of broad 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793F-CA2D-49CC-B5E3-9F2C54815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tion to SEM: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ch more to cover (in the fu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itudinal mo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growth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difference scor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lagged latent variabl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xtur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la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profil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transitio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ture is bright [gotta wear shade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04A1-486F-482E-B544-FCC142321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th Dia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EM, we often deal with several variables, complex relations, and latent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help explain, describe, and understand SEMs, we use path diagrams to visually represent a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SEM programs use Path Diagrams for programming (e.g., AMOS, M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 path diagra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not be useful for very large models (with lots of variables and lots of rel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 algebra may be more helpful with larg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BCC0-645B-485B-B550-A8FB56163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th Dia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literature, you will see researchers / programs draw diagrams diffe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use RAM specification (McArdle &amp; McDonald, 198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rams are complete, as every estimated parameter has a place in th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path tracing rules to generate model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variations of path diagrams will be described today, but are not likely to appear often (because they are incomple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83BB-4EBF-47D7-9BFD-C0CF3657E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s of Path Diagrams: A 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996840" y="1441440"/>
            <a:ext cx="768600" cy="858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22280" y="2733840"/>
            <a:ext cx="244440" cy="268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1027080" y="2523960"/>
            <a:ext cx="701640" cy="858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4"/>
          <a:stretch/>
        </p:blipFill>
        <p:spPr>
          <a:xfrm>
            <a:off x="422280" y="3886200"/>
            <a:ext cx="330120" cy="304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5"/>
          <a:stretch/>
        </p:blipFill>
        <p:spPr>
          <a:xfrm>
            <a:off x="896760" y="3807000"/>
            <a:ext cx="1160640" cy="311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6"/>
          <a:stretch/>
        </p:blipFill>
        <p:spPr>
          <a:xfrm>
            <a:off x="708120" y="4757760"/>
            <a:ext cx="1146240" cy="158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7"/>
          <a:stretch/>
        </p:blipFill>
        <p:spPr>
          <a:xfrm>
            <a:off x="857160" y="5408640"/>
            <a:ext cx="712800" cy="873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361960" y="1599840"/>
            <a:ext cx="6476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s (or rectangles) = manifes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les (or ellipses) = laten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-headed arrows = variances 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-headed arrows = reg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angle = unit constant (for modeling me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B768-C774-42D7-B317-924E79504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 Basic Path Dia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Univariate regress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Univariate regression model with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Multiple regress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Mediat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 Complex path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 Confirmatory facto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 Latent variable path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0C88-BA5D-4B6D-B7E2-4466E1CE8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Univariate regress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0463-9A49-4339-9434-CCD635FEC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36232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95288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AutoShape 5"/>
          <p:cNvCxnSpPr>
            <a:stCxn id="123" idx="3"/>
            <a:endCxn id="124" idx="1"/>
          </p:cNvCxnSpPr>
          <p:nvPr/>
        </p:nvCxnSpPr>
        <p:spPr>
          <a:xfrm>
            <a:off x="3504960" y="2857320"/>
            <a:ext cx="1448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26" name="AutoShape 8"/>
          <p:cNvCxnSpPr>
            <a:endCxn id="124" idx="3"/>
          </p:cNvCxnSpPr>
          <p:nvPr/>
        </p:nvCxnSpPr>
        <p:spPr>
          <a:xfrm flipH="1">
            <a:off x="6095520" y="28573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Univariate regress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Complete model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88C6-AA4C-49E2-A1D1-E1CCC35E5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371600" y="21114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962520" y="21114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5"/>
          <p:cNvCxnSpPr>
            <a:stCxn id="131" idx="3"/>
            <a:endCxn id="132" idx="1"/>
          </p:cNvCxnSpPr>
          <p:nvPr/>
        </p:nvCxnSpPr>
        <p:spPr>
          <a:xfrm>
            <a:off x="2514600" y="268236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34" name="Freeform 6"/>
          <p:cNvSpPr/>
          <p:nvPr/>
        </p:nvSpPr>
        <p:spPr>
          <a:xfrm rot="16200000">
            <a:off x="799920" y="24537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"/>
          <p:cNvSpPr/>
          <p:nvPr/>
        </p:nvSpPr>
        <p:spPr>
          <a:xfrm>
            <a:off x="6705720" y="21114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AutoShape 8"/>
          <p:cNvCxnSpPr>
            <a:stCxn id="135" idx="2"/>
            <a:endCxn id="132" idx="3"/>
          </p:cNvCxnSpPr>
          <p:nvPr/>
        </p:nvCxnSpPr>
        <p:spPr>
          <a:xfrm flipH="1">
            <a:off x="5104800" y="2682360"/>
            <a:ext cx="160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37" name="Freeform 9"/>
          <p:cNvSpPr/>
          <p:nvPr/>
        </p:nvSpPr>
        <p:spPr>
          <a:xfrm flipH="1" rot="5400000">
            <a:off x="7657920" y="24537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2666880" y="4572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5257800" y="4572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AutoShape 12"/>
          <p:cNvCxnSpPr>
            <a:stCxn id="138" idx="3"/>
            <a:endCxn id="139" idx="1"/>
          </p:cNvCxnSpPr>
          <p:nvPr/>
        </p:nvCxnSpPr>
        <p:spPr>
          <a:xfrm>
            <a:off x="3809880" y="514332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41" name="Freeform 13"/>
          <p:cNvSpPr/>
          <p:nvPr/>
        </p:nvSpPr>
        <p:spPr>
          <a:xfrm rot="16200000">
            <a:off x="2095200" y="4914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4"/>
          <p:cNvSpPr/>
          <p:nvPr/>
        </p:nvSpPr>
        <p:spPr>
          <a:xfrm flipH="1" rot="5400000">
            <a:off x="6286320" y="4914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Univariate regression model with m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Model for covariances and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F1F9-5670-4CAC-BD96-E89E6C3CA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37160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96252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AutoShape 5"/>
          <p:cNvCxnSpPr>
            <a:stCxn id="147" idx="3"/>
            <a:endCxn id="148" idx="1"/>
          </p:cNvCxnSpPr>
          <p:nvPr/>
        </p:nvCxnSpPr>
        <p:spPr>
          <a:xfrm>
            <a:off x="2514600" y="285732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50" name="Freeform 6"/>
          <p:cNvSpPr/>
          <p:nvPr/>
        </p:nvSpPr>
        <p:spPr>
          <a:xfrm rot="16200000">
            <a:off x="799920" y="2628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7"/>
          <p:cNvSpPr/>
          <p:nvPr/>
        </p:nvSpPr>
        <p:spPr>
          <a:xfrm>
            <a:off x="6705720" y="22860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AutoShape 8"/>
          <p:cNvCxnSpPr>
            <a:stCxn id="151" idx="2"/>
            <a:endCxn id="148" idx="3"/>
          </p:cNvCxnSpPr>
          <p:nvPr/>
        </p:nvCxnSpPr>
        <p:spPr>
          <a:xfrm flipH="1">
            <a:off x="5104800" y="2857320"/>
            <a:ext cx="160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53" name="Freeform 9"/>
          <p:cNvSpPr/>
          <p:nvPr/>
        </p:nvSpPr>
        <p:spPr>
          <a:xfrm flipH="1" rot="5400000">
            <a:off x="7657920" y="2628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6"/>
          <p:cNvSpPr/>
          <p:nvPr/>
        </p:nvSpPr>
        <p:spPr>
          <a:xfrm>
            <a:off x="1371600" y="4876920"/>
            <a:ext cx="1143000" cy="1143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AutoShape 17"/>
          <p:cNvCxnSpPr>
            <a:stCxn id="154" idx="5"/>
          </p:cNvCxnSpPr>
          <p:nvPr/>
        </p:nvCxnSpPr>
        <p:spPr>
          <a:xfrm flipV="1">
            <a:off x="2228760" y="3428280"/>
            <a:ext cx="1734480" cy="20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56" name="AutoShape 18"/>
          <p:cNvCxnSpPr>
            <a:stCxn id="154" idx="0"/>
            <a:endCxn id="147" idx="2"/>
          </p:cNvCxnSpPr>
          <p:nvPr/>
        </p:nvCxnSpPr>
        <p:spPr>
          <a:xfrm flipV="1">
            <a:off x="1942920" y="3428640"/>
            <a:ext cx="1080" cy="14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57" name="Freeform 19"/>
          <p:cNvSpPr/>
          <p:nvPr/>
        </p:nvSpPr>
        <p:spPr>
          <a:xfrm rot="10800000">
            <a:off x="1599840" y="60199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SEM &amp; why should we be interest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 is popular and has practical value because most or all prior parametric models can be clarifi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VA, linear regression, factor analysis, biometric models, etc. – all special cases of 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state-of-the-art ideas can be tested only (or certainly most easily) using S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s among factors “free of measurement err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on of latent constr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 of incomplete data, circumventing or surmounting bi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 provides a framework for more complex (i.e., more realistic) representations of human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35F2-24AE-4901-914B-8B941C73B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Multiple regress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Complete model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888F-2DE7-43E1-8290-1B8A470C0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137160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724280" y="35053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AutoShape 5"/>
          <p:cNvCxnSpPr>
            <a:stCxn id="162" idx="3"/>
          </p:cNvCxnSpPr>
          <p:nvPr/>
        </p:nvCxnSpPr>
        <p:spPr>
          <a:xfrm>
            <a:off x="2514600" y="2857320"/>
            <a:ext cx="2210400" cy="95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5" name="Freeform 6"/>
          <p:cNvSpPr/>
          <p:nvPr/>
        </p:nvSpPr>
        <p:spPr>
          <a:xfrm rot="16200000">
            <a:off x="799920" y="2628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6629400" y="350532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AutoShape 8"/>
          <p:cNvCxnSpPr>
            <a:stCxn id="166" idx="2"/>
            <a:endCxn id="163" idx="3"/>
          </p:cNvCxnSpPr>
          <p:nvPr/>
        </p:nvCxnSpPr>
        <p:spPr>
          <a:xfrm flipH="1">
            <a:off x="5866560" y="4076280"/>
            <a:ext cx="762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8" name="Freeform 9"/>
          <p:cNvSpPr/>
          <p:nvPr/>
        </p:nvSpPr>
        <p:spPr>
          <a:xfrm flipH="1" rot="5400000">
            <a:off x="7581600" y="38476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1371600" y="46483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7"/>
          <p:cNvSpPr/>
          <p:nvPr/>
        </p:nvSpPr>
        <p:spPr>
          <a:xfrm rot="16200000">
            <a:off x="799920" y="49906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AutoShape 18"/>
          <p:cNvCxnSpPr>
            <a:stCxn id="169" idx="3"/>
          </p:cNvCxnSpPr>
          <p:nvPr/>
        </p:nvCxnSpPr>
        <p:spPr>
          <a:xfrm flipV="1">
            <a:off x="2514600" y="4343040"/>
            <a:ext cx="221040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72" name="AutoShape 19"/>
          <p:cNvCxnSpPr>
            <a:stCxn id="169" idx="0"/>
            <a:endCxn id="162" idx="2"/>
          </p:cNvCxnSpPr>
          <p:nvPr/>
        </p:nvCxnSpPr>
        <p:spPr>
          <a:xfrm flipV="1">
            <a:off x="1942920" y="3428280"/>
            <a:ext cx="108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</p:cxn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Medi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Complete model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0B99-7C60-4C67-AE8B-E8A144232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276720" y="36655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334120" y="52657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AutoShape 5"/>
          <p:cNvCxnSpPr/>
          <p:nvPr/>
        </p:nvCxnSpPr>
        <p:spPr>
          <a:xfrm>
            <a:off x="4419720" y="480852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80" name="Freeform 6"/>
          <p:cNvSpPr/>
          <p:nvPr/>
        </p:nvSpPr>
        <p:spPr>
          <a:xfrm>
            <a:off x="3505320" y="16081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7"/>
          <p:cNvSpPr/>
          <p:nvPr/>
        </p:nvSpPr>
        <p:spPr>
          <a:xfrm>
            <a:off x="6934320" y="526572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AutoShape 8"/>
          <p:cNvCxnSpPr>
            <a:stCxn id="181" idx="2"/>
            <a:endCxn id="178" idx="3"/>
          </p:cNvCxnSpPr>
          <p:nvPr/>
        </p:nvCxnSpPr>
        <p:spPr>
          <a:xfrm flipH="1">
            <a:off x="6476760" y="58370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83" name="Freeform 9"/>
          <p:cNvSpPr/>
          <p:nvPr/>
        </p:nvSpPr>
        <p:spPr>
          <a:xfrm flipH="1" rot="5400000">
            <a:off x="7886520" y="56080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1371600" y="52657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1"/>
          <p:cNvSpPr/>
          <p:nvPr/>
        </p:nvSpPr>
        <p:spPr>
          <a:xfrm rot="16200000">
            <a:off x="799920" y="56080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AutoShape 12"/>
          <p:cNvCxnSpPr>
            <a:stCxn id="184" idx="3"/>
            <a:endCxn id="178" idx="1"/>
          </p:cNvCxnSpPr>
          <p:nvPr/>
        </p:nvCxnSpPr>
        <p:spPr>
          <a:xfrm>
            <a:off x="2514600" y="5837040"/>
            <a:ext cx="2820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87" name="AutoShape 13"/>
          <p:cNvCxnSpPr/>
          <p:nvPr/>
        </p:nvCxnSpPr>
        <p:spPr>
          <a:xfrm flipV="1">
            <a:off x="2514240" y="4808160"/>
            <a:ext cx="7628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88" name="Oval 14"/>
          <p:cNvSpPr/>
          <p:nvPr/>
        </p:nvSpPr>
        <p:spPr>
          <a:xfrm>
            <a:off x="3276720" y="19890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15"/>
          <p:cNvCxnSpPr>
            <a:stCxn id="188" idx="4"/>
            <a:endCxn id="177" idx="0"/>
          </p:cNvCxnSpPr>
          <p:nvPr/>
        </p:nvCxnSpPr>
        <p:spPr>
          <a:xfrm>
            <a:off x="3847680" y="313200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90" name="Slide Number Placeholder 1"/>
          <p:cNvSpPr/>
          <p:nvPr/>
        </p:nvSpPr>
        <p:spPr>
          <a:xfrm>
            <a:off x="6172200" y="610092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Medi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Simplified notation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D688-C7F4-45A8-A238-723886A52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"/>
          <p:cNvSpPr/>
          <p:nvPr/>
        </p:nvSpPr>
        <p:spPr>
          <a:xfrm>
            <a:off x="6172200" y="610092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000680" y="26748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58080" y="4275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AutoShape 5"/>
          <p:cNvCxnSpPr/>
          <p:nvPr/>
        </p:nvCxnSpPr>
        <p:spPr>
          <a:xfrm>
            <a:off x="5143680" y="381780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99" name="Freeform 6"/>
          <p:cNvSpPr/>
          <p:nvPr/>
        </p:nvSpPr>
        <p:spPr>
          <a:xfrm>
            <a:off x="4229280" y="221760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9"/>
          <p:cNvSpPr/>
          <p:nvPr/>
        </p:nvSpPr>
        <p:spPr>
          <a:xfrm flipH="1" rot="5400000">
            <a:off x="7086600" y="4617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2095560" y="4275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1"/>
          <p:cNvSpPr/>
          <p:nvPr/>
        </p:nvSpPr>
        <p:spPr>
          <a:xfrm rot="16200000">
            <a:off x="1523880" y="4617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AutoShape 12"/>
          <p:cNvCxnSpPr>
            <a:stCxn id="201" idx="3"/>
            <a:endCxn id="197" idx="1"/>
          </p:cNvCxnSpPr>
          <p:nvPr/>
        </p:nvCxnSpPr>
        <p:spPr>
          <a:xfrm>
            <a:off x="3238560" y="4846320"/>
            <a:ext cx="2820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04" name="AutoShape 13"/>
          <p:cNvCxnSpPr/>
          <p:nvPr/>
        </p:nvCxnSpPr>
        <p:spPr>
          <a:xfrm flipV="1">
            <a:off x="3238200" y="3817440"/>
            <a:ext cx="7628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. Complex path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Simplified notation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D21B-4F25-4AC0-A881-C7AF857CF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6172200" y="610092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184400" y="2735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6899400" y="34210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AutoShape 5"/>
          <p:cNvCxnSpPr>
            <a:stCxn id="210" idx="3"/>
            <a:endCxn id="213" idx="1"/>
          </p:cNvCxnSpPr>
          <p:nvPr/>
        </p:nvCxnSpPr>
        <p:spPr>
          <a:xfrm flipV="1">
            <a:off x="2327040" y="2544480"/>
            <a:ext cx="198180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14" name="Freeform 6"/>
          <p:cNvSpPr/>
          <p:nvPr/>
        </p:nvSpPr>
        <p:spPr>
          <a:xfrm rot="16200000">
            <a:off x="612720" y="3077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9"/>
          <p:cNvSpPr/>
          <p:nvPr/>
        </p:nvSpPr>
        <p:spPr>
          <a:xfrm flipH="1" rot="5400000">
            <a:off x="7927920" y="37634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1184400" y="45640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1"/>
          <p:cNvSpPr/>
          <p:nvPr/>
        </p:nvSpPr>
        <p:spPr>
          <a:xfrm rot="16200000">
            <a:off x="612720" y="49064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AutoShape 12"/>
          <p:cNvCxnSpPr>
            <a:stCxn id="210" idx="3"/>
            <a:endCxn id="211" idx="1"/>
          </p:cNvCxnSpPr>
          <p:nvPr/>
        </p:nvCxnSpPr>
        <p:spPr>
          <a:xfrm>
            <a:off x="2327400" y="3306240"/>
            <a:ext cx="45727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19" name="AutoShape 13"/>
          <p:cNvCxnSpPr>
            <a:stCxn id="216" idx="0"/>
            <a:endCxn id="210" idx="2"/>
          </p:cNvCxnSpPr>
          <p:nvPr/>
        </p:nvCxnSpPr>
        <p:spPr>
          <a:xfrm flipV="1">
            <a:off x="1755360" y="38775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</p:cxnSp>
      <p:sp>
        <p:nvSpPr>
          <p:cNvPr id="213" name="Rectangle 16"/>
          <p:cNvSpPr/>
          <p:nvPr/>
        </p:nvSpPr>
        <p:spPr>
          <a:xfrm>
            <a:off x="4308480" y="197316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4308480" y="50976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AutoShape 20"/>
          <p:cNvCxnSpPr>
            <a:stCxn id="213" idx="3"/>
            <a:endCxn id="211" idx="0"/>
          </p:cNvCxnSpPr>
          <p:nvPr/>
        </p:nvCxnSpPr>
        <p:spPr>
          <a:xfrm>
            <a:off x="5451120" y="2544840"/>
            <a:ext cx="201996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2" name="AutoShape 21"/>
          <p:cNvCxnSpPr>
            <a:stCxn id="213" idx="2"/>
            <a:endCxn id="220" idx="0"/>
          </p:cNvCxnSpPr>
          <p:nvPr/>
        </p:nvCxnSpPr>
        <p:spPr>
          <a:xfrm>
            <a:off x="4879440" y="3116160"/>
            <a:ext cx="1080" cy="198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3" name="AutoShape 22"/>
          <p:cNvCxnSpPr>
            <a:stCxn id="220" idx="3"/>
            <a:endCxn id="211" idx="2"/>
          </p:cNvCxnSpPr>
          <p:nvPr/>
        </p:nvCxnSpPr>
        <p:spPr>
          <a:xfrm flipV="1">
            <a:off x="5451120" y="4563360"/>
            <a:ext cx="2019960" cy="11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4" name="AutoShape 23"/>
          <p:cNvCxnSpPr>
            <a:stCxn id="216" idx="3"/>
          </p:cNvCxnSpPr>
          <p:nvPr/>
        </p:nvCxnSpPr>
        <p:spPr>
          <a:xfrm flipV="1">
            <a:off x="2327040" y="3115440"/>
            <a:ext cx="1981800" cy="20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5" name="AutoShape 24"/>
          <p:cNvCxnSpPr>
            <a:stCxn id="216" idx="3"/>
            <a:endCxn id="220" idx="1"/>
          </p:cNvCxnSpPr>
          <p:nvPr/>
        </p:nvCxnSpPr>
        <p:spPr>
          <a:xfrm>
            <a:off x="2327040" y="5135400"/>
            <a:ext cx="19818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26" name="Freeform 25"/>
          <p:cNvSpPr/>
          <p:nvPr/>
        </p:nvSpPr>
        <p:spPr>
          <a:xfrm>
            <a:off x="4537080" y="15159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26"/>
          <p:cNvSpPr/>
          <p:nvPr/>
        </p:nvSpPr>
        <p:spPr>
          <a:xfrm flipV="1">
            <a:off x="4537080" y="624060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1"/>
          <p:cNvSpPr/>
          <p:nvPr/>
        </p:nvSpPr>
        <p:spPr>
          <a:xfrm>
            <a:off x="6594480" y="6161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. Confirmatory factor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Simplified notation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B7A4-1413-4EBD-BC6F-6C36736D5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1"/>
          <p:cNvSpPr/>
          <p:nvPr/>
        </p:nvSpPr>
        <p:spPr>
          <a:xfrm>
            <a:off x="6172200" y="610092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1"/>
          <p:cNvSpPr/>
          <p:nvPr/>
        </p:nvSpPr>
        <p:spPr>
          <a:xfrm>
            <a:off x="6594480" y="6161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5228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AutoShape 4"/>
          <p:cNvCxnSpPr>
            <a:stCxn id="237" idx="4"/>
            <a:endCxn id="238" idx="0"/>
          </p:cNvCxnSpPr>
          <p:nvPr/>
        </p:nvCxnSpPr>
        <p:spPr>
          <a:xfrm flipH="1">
            <a:off x="2018520" y="3200040"/>
            <a:ext cx="7628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38" name="Rectangle 7"/>
          <p:cNvSpPr/>
          <p:nvPr/>
        </p:nvSpPr>
        <p:spPr>
          <a:xfrm>
            <a:off x="144792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8"/>
          <p:cNvSpPr/>
          <p:nvPr/>
        </p:nvSpPr>
        <p:spPr>
          <a:xfrm rot="10800000">
            <a:off x="167616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AutoShape 9"/>
          <p:cNvCxnSpPr>
            <a:stCxn id="237" idx="4"/>
            <a:endCxn id="235" idx="0"/>
          </p:cNvCxnSpPr>
          <p:nvPr/>
        </p:nvCxnSpPr>
        <p:spPr>
          <a:xfrm flipH="1">
            <a:off x="723600" y="3200040"/>
            <a:ext cx="20577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41" name="Rectangle 11"/>
          <p:cNvSpPr/>
          <p:nvPr/>
        </p:nvSpPr>
        <p:spPr>
          <a:xfrm>
            <a:off x="274320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403848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AutoShape 14"/>
          <p:cNvCxnSpPr>
            <a:stCxn id="244" idx="4"/>
            <a:endCxn id="245" idx="0"/>
          </p:cNvCxnSpPr>
          <p:nvPr/>
        </p:nvCxnSpPr>
        <p:spPr>
          <a:xfrm>
            <a:off x="5905080" y="3200040"/>
            <a:ext cx="10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46" name="AutoShape 15"/>
          <p:cNvCxnSpPr>
            <a:stCxn id="244" idx="4"/>
            <a:endCxn id="242" idx="0"/>
          </p:cNvCxnSpPr>
          <p:nvPr/>
        </p:nvCxnSpPr>
        <p:spPr>
          <a:xfrm flipH="1">
            <a:off x="4609800" y="3200040"/>
            <a:ext cx="129600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47" name="AutoShape 16"/>
          <p:cNvCxnSpPr>
            <a:stCxn id="244" idx="4"/>
            <a:endCxn id="248" idx="0"/>
          </p:cNvCxnSpPr>
          <p:nvPr/>
        </p:nvCxnSpPr>
        <p:spPr>
          <a:xfrm>
            <a:off x="5905080" y="3200040"/>
            <a:ext cx="12963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49" name="AutoShape 17"/>
          <p:cNvCxnSpPr>
            <a:stCxn id="237" idx="4"/>
            <a:endCxn id="242" idx="0"/>
          </p:cNvCxnSpPr>
          <p:nvPr/>
        </p:nvCxnSpPr>
        <p:spPr>
          <a:xfrm>
            <a:off x="2781360" y="3200040"/>
            <a:ext cx="182952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50" name="AutoShape 18"/>
          <p:cNvCxnSpPr>
            <a:stCxn id="237" idx="4"/>
            <a:endCxn id="241" idx="0"/>
          </p:cNvCxnSpPr>
          <p:nvPr/>
        </p:nvCxnSpPr>
        <p:spPr>
          <a:xfrm>
            <a:off x="2781360" y="3200040"/>
            <a:ext cx="5342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51" name="Freeform 19"/>
          <p:cNvSpPr/>
          <p:nvPr/>
        </p:nvSpPr>
        <p:spPr>
          <a:xfrm>
            <a:off x="5562720" y="16765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0"/>
          <p:cNvSpPr/>
          <p:nvPr/>
        </p:nvSpPr>
        <p:spPr>
          <a:xfrm flipV="1">
            <a:off x="426708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1"/>
          <p:cNvSpPr/>
          <p:nvPr/>
        </p:nvSpPr>
        <p:spPr>
          <a:xfrm rot="10800000">
            <a:off x="38052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2"/>
          <p:cNvSpPr/>
          <p:nvPr/>
        </p:nvSpPr>
        <p:spPr>
          <a:xfrm>
            <a:off x="533412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23"/>
          <p:cNvSpPr/>
          <p:nvPr/>
        </p:nvSpPr>
        <p:spPr>
          <a:xfrm rot="10800000">
            <a:off x="556236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4"/>
          <p:cNvSpPr/>
          <p:nvPr/>
        </p:nvSpPr>
        <p:spPr>
          <a:xfrm>
            <a:off x="662940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5"/>
          <p:cNvSpPr/>
          <p:nvPr/>
        </p:nvSpPr>
        <p:spPr>
          <a:xfrm>
            <a:off x="792468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AutoShape 28"/>
          <p:cNvCxnSpPr>
            <a:stCxn id="244" idx="4"/>
            <a:endCxn id="255" idx="0"/>
          </p:cNvCxnSpPr>
          <p:nvPr/>
        </p:nvCxnSpPr>
        <p:spPr>
          <a:xfrm>
            <a:off x="5905080" y="3200040"/>
            <a:ext cx="25916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57" name="Freeform 29"/>
          <p:cNvSpPr/>
          <p:nvPr/>
        </p:nvSpPr>
        <p:spPr>
          <a:xfrm flipV="1">
            <a:off x="815328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30"/>
          <p:cNvSpPr/>
          <p:nvPr/>
        </p:nvSpPr>
        <p:spPr>
          <a:xfrm rot="10800000">
            <a:off x="685764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31"/>
          <p:cNvSpPr/>
          <p:nvPr/>
        </p:nvSpPr>
        <p:spPr>
          <a:xfrm rot="10800000">
            <a:off x="297144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2"/>
          <p:cNvSpPr/>
          <p:nvPr/>
        </p:nvSpPr>
        <p:spPr>
          <a:xfrm>
            <a:off x="2209680" y="20574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33"/>
          <p:cNvSpPr/>
          <p:nvPr/>
        </p:nvSpPr>
        <p:spPr>
          <a:xfrm>
            <a:off x="5334120" y="20574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AutoShape 34"/>
          <p:cNvCxnSpPr>
            <a:stCxn id="237" idx="7"/>
            <a:endCxn id="244" idx="1"/>
          </p:cNvCxnSpPr>
          <p:nvPr/>
        </p:nvCxnSpPr>
        <p:spPr>
          <a:xfrm flipH="1" rot="16200000">
            <a:off x="4342680" y="1067040"/>
            <a:ext cx="2160" cy="2315520"/>
          </a:xfrm>
          <a:prstGeom prst="curvedConnector5">
            <a:avLst>
              <a:gd name="adj1" fmla="val -24900000"/>
              <a:gd name="adj2" fmla="val 49992"/>
              <a:gd name="adj3" fmla="val -249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1" name="Freeform 35"/>
          <p:cNvSpPr/>
          <p:nvPr/>
        </p:nvSpPr>
        <p:spPr>
          <a:xfrm>
            <a:off x="2438280" y="16765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114300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AutoShape 3"/>
          <p:cNvCxnSpPr>
            <a:stCxn id="264" idx="4"/>
            <a:endCxn id="265" idx="0"/>
          </p:cNvCxnSpPr>
          <p:nvPr/>
        </p:nvCxnSpPr>
        <p:spPr>
          <a:xfrm>
            <a:off x="2323800" y="4762440"/>
            <a:ext cx="6865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65" name="Rectangle 4"/>
          <p:cNvSpPr/>
          <p:nvPr/>
        </p:nvSpPr>
        <p:spPr>
          <a:xfrm>
            <a:off x="243828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5"/>
          <p:cNvSpPr/>
          <p:nvPr/>
        </p:nvSpPr>
        <p:spPr>
          <a:xfrm rot="10800000">
            <a:off x="266652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AutoShape 6"/>
          <p:cNvCxnSpPr>
            <a:stCxn id="264" idx="4"/>
            <a:endCxn id="262" idx="0"/>
          </p:cNvCxnSpPr>
          <p:nvPr/>
        </p:nvCxnSpPr>
        <p:spPr>
          <a:xfrm flipH="1">
            <a:off x="1713960" y="4762440"/>
            <a:ext cx="6102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68" name="Rectangle 7"/>
          <p:cNvSpPr/>
          <p:nvPr/>
        </p:nvSpPr>
        <p:spPr>
          <a:xfrm>
            <a:off x="4800600" y="5335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6095880" y="5335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AutoShape 10"/>
          <p:cNvCxnSpPr>
            <a:stCxn id="271" idx="4"/>
            <a:endCxn id="272" idx="0"/>
          </p:cNvCxnSpPr>
          <p:nvPr/>
        </p:nvCxnSpPr>
        <p:spPr>
          <a:xfrm flipH="1">
            <a:off x="5829120" y="4762440"/>
            <a:ext cx="12960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73" name="AutoShape 12"/>
          <p:cNvCxnSpPr>
            <a:stCxn id="271" idx="4"/>
            <a:endCxn id="274" idx="0"/>
          </p:cNvCxnSpPr>
          <p:nvPr/>
        </p:nvCxnSpPr>
        <p:spPr>
          <a:xfrm>
            <a:off x="7124400" y="47624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75" name="AutoShape 13"/>
          <p:cNvCxnSpPr>
            <a:stCxn id="276" idx="0"/>
            <a:endCxn id="269" idx="2"/>
          </p:cNvCxnSpPr>
          <p:nvPr/>
        </p:nvCxnSpPr>
        <p:spPr>
          <a:xfrm flipV="1">
            <a:off x="6057720" y="1676160"/>
            <a:ext cx="6102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77" name="AutoShape 14"/>
          <p:cNvCxnSpPr>
            <a:stCxn id="276" idx="0"/>
            <a:endCxn id="268" idx="2"/>
          </p:cNvCxnSpPr>
          <p:nvPr/>
        </p:nvCxnSpPr>
        <p:spPr>
          <a:xfrm flipH="1" flipV="1">
            <a:off x="5371560" y="1676160"/>
            <a:ext cx="6865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78" name="Freeform 15"/>
          <p:cNvSpPr/>
          <p:nvPr/>
        </p:nvSpPr>
        <p:spPr>
          <a:xfrm>
            <a:off x="6781680" y="32385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6"/>
          <p:cNvSpPr/>
          <p:nvPr/>
        </p:nvSpPr>
        <p:spPr>
          <a:xfrm>
            <a:off x="6324480" y="763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7"/>
          <p:cNvSpPr/>
          <p:nvPr/>
        </p:nvSpPr>
        <p:spPr>
          <a:xfrm rot="10800000">
            <a:off x="137124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8"/>
          <p:cNvSpPr/>
          <p:nvPr/>
        </p:nvSpPr>
        <p:spPr>
          <a:xfrm>
            <a:off x="525780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9"/>
          <p:cNvSpPr/>
          <p:nvPr/>
        </p:nvSpPr>
        <p:spPr>
          <a:xfrm rot="10800000">
            <a:off x="548604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0"/>
          <p:cNvSpPr/>
          <p:nvPr/>
        </p:nvSpPr>
        <p:spPr>
          <a:xfrm>
            <a:off x="655308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1"/>
          <p:cNvSpPr/>
          <p:nvPr/>
        </p:nvSpPr>
        <p:spPr>
          <a:xfrm>
            <a:off x="784872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AutoShape 22"/>
          <p:cNvCxnSpPr>
            <a:stCxn id="271" idx="4"/>
            <a:endCxn id="282" idx="0"/>
          </p:cNvCxnSpPr>
          <p:nvPr/>
        </p:nvCxnSpPr>
        <p:spPr>
          <a:xfrm>
            <a:off x="7124760" y="4762440"/>
            <a:ext cx="12960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84" name="Freeform 23"/>
          <p:cNvSpPr/>
          <p:nvPr/>
        </p:nvSpPr>
        <p:spPr>
          <a:xfrm flipV="1">
            <a:off x="807732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4"/>
          <p:cNvSpPr/>
          <p:nvPr/>
        </p:nvSpPr>
        <p:spPr>
          <a:xfrm rot="10800000">
            <a:off x="678132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25"/>
          <p:cNvSpPr/>
          <p:nvPr/>
        </p:nvSpPr>
        <p:spPr>
          <a:xfrm flipV="1" rot="10800000">
            <a:off x="5028840" y="763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26"/>
          <p:cNvSpPr/>
          <p:nvPr/>
        </p:nvSpPr>
        <p:spPr>
          <a:xfrm>
            <a:off x="1752480" y="361944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27"/>
          <p:cNvSpPr/>
          <p:nvPr/>
        </p:nvSpPr>
        <p:spPr>
          <a:xfrm>
            <a:off x="6553080" y="361944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29"/>
          <p:cNvSpPr/>
          <p:nvPr/>
        </p:nvSpPr>
        <p:spPr>
          <a:xfrm>
            <a:off x="1981080" y="32385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31"/>
          <p:cNvSpPr/>
          <p:nvPr/>
        </p:nvSpPr>
        <p:spPr>
          <a:xfrm>
            <a:off x="5486400" y="213372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AutoShape 33"/>
          <p:cNvCxnSpPr>
            <a:stCxn id="264" idx="7"/>
            <a:endCxn id="276" idx="2"/>
          </p:cNvCxnSpPr>
          <p:nvPr/>
        </p:nvCxnSpPr>
        <p:spPr>
          <a:xfrm flipV="1">
            <a:off x="2728800" y="2704320"/>
            <a:ext cx="275832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89" name="AutoShape 34"/>
          <p:cNvCxnSpPr>
            <a:stCxn id="264" idx="6"/>
            <a:endCxn id="271" idx="2"/>
          </p:cNvCxnSpPr>
          <p:nvPr/>
        </p:nvCxnSpPr>
        <p:spPr>
          <a:xfrm>
            <a:off x="2895480" y="4190760"/>
            <a:ext cx="3658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90" name="AutoShape 35"/>
          <p:cNvCxnSpPr>
            <a:endCxn id="271" idx="1"/>
          </p:cNvCxnSpPr>
          <p:nvPr/>
        </p:nvCxnSpPr>
        <p:spPr>
          <a:xfrm>
            <a:off x="6324480" y="3238200"/>
            <a:ext cx="396000" cy="5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91" name="Freeform 36"/>
          <p:cNvSpPr/>
          <p:nvPr/>
        </p:nvSpPr>
        <p:spPr>
          <a:xfrm flipH="1" rot="5400000">
            <a:off x="6438600" y="24760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D595-CFAA-486F-AA32-4949C90DD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0" y="0"/>
            <a:ext cx="45720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. Latent variabl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th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for multitrait-multimethod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514A-94E2-4A3C-9470-AC327F18D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n more complex measurement mode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1752480" y="941400"/>
            <a:ext cx="5639040" cy="49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3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477120" cy="59436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A2A8-5477-412A-821C-64ED0393B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n more complex latent variable path mode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al Regress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ating Expectations wit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th Tracing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BB3D-86F7-4005-A4CF-B0F2DF67B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=   intercept, predicted value of Y when predictors (X) are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=   slope coefficient, predicted amount of change in Y for a 1-unit change in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=   residual, part of Y not predicted by X, uncorrelated with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c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ecomposed into variance explain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unexplained variance (varianc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Object 4"/>
          <p:cNvGraphicFramePr/>
          <p:nvPr/>
        </p:nvGraphicFramePr>
        <p:xfrm>
          <a:off x="2286000" y="1492200"/>
          <a:ext cx="4419720" cy="6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492200"/>
                    <a:ext cx="441972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8986-6613-418C-BF5B-25036B7E6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gression and Structural Regr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between Theory and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 requires researchers to be explicit about hypotheses (and assum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ccessible framework for articulation of theoretical conje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framework for represent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ronts key ques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theory or data driving the structural model being tes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not oversell contributions of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-called “causal models” in SEM provide no more “causal analysis” than other forms of data analysis – and maybe rather weaker, if data are w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E6CF-1B7A-49D2-BE3D-DE0DF9212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3"/>
          <p:cNvSpPr/>
          <p:nvPr/>
        </p:nvSpPr>
        <p:spPr>
          <a:xfrm>
            <a:off x="1333440" y="259092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4000680" y="259092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5"/>
          <p:cNvSpPr/>
          <p:nvPr/>
        </p:nvSpPr>
        <p:spPr>
          <a:xfrm>
            <a:off x="6438960" y="2590920"/>
            <a:ext cx="1143000" cy="1143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AutoShape 6"/>
          <p:cNvCxnSpPr>
            <a:stCxn id="313" idx="3"/>
            <a:endCxn id="314" idx="1"/>
          </p:cNvCxnSpPr>
          <p:nvPr/>
        </p:nvCxnSpPr>
        <p:spPr>
          <a:xfrm>
            <a:off x="2476440" y="3161880"/>
            <a:ext cx="1524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AutoShape 7"/>
          <p:cNvCxnSpPr>
            <a:stCxn id="315" idx="2"/>
            <a:endCxn id="314" idx="3"/>
          </p:cNvCxnSpPr>
          <p:nvPr/>
        </p:nvCxnSpPr>
        <p:spPr>
          <a:xfrm flipH="1">
            <a:off x="5143320" y="3161880"/>
            <a:ext cx="129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8" name="Freeform 8"/>
          <p:cNvSpPr/>
          <p:nvPr/>
        </p:nvSpPr>
        <p:spPr>
          <a:xfrm rot="5400000">
            <a:off x="7429320" y="28954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2933640" y="251460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7962840" y="2514600"/>
            <a:ext cx="838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304920" y="2225520"/>
            <a:ext cx="838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 flipH="1" rot="16200000">
            <a:off x="722880" y="2895840"/>
            <a:ext cx="685800" cy="53316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19"/>
          <p:cNvGraphicFramePr/>
          <p:nvPr/>
        </p:nvGraphicFramePr>
        <p:xfrm>
          <a:off x="5040360" y="4827600"/>
          <a:ext cx="298764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0360" y="4827600"/>
                    <a:ext cx="298764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20"/>
          <p:cNvSpPr/>
          <p:nvPr/>
        </p:nvSpPr>
        <p:spPr>
          <a:xfrm>
            <a:off x="5676840" y="26208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D18D-5625-46E8-BC78-A1DA7A591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al Regression: Model for Covari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3"/>
          <p:cNvSpPr/>
          <p:nvPr/>
        </p:nvSpPr>
        <p:spPr>
          <a:xfrm>
            <a:off x="1371600" y="175248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4038480" y="175248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5"/>
          <p:cNvSpPr/>
          <p:nvPr/>
        </p:nvSpPr>
        <p:spPr>
          <a:xfrm>
            <a:off x="6477120" y="1752480"/>
            <a:ext cx="1143000" cy="1143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AutoShape 6"/>
          <p:cNvCxnSpPr>
            <a:stCxn id="329" idx="3"/>
            <a:endCxn id="330" idx="1"/>
          </p:cNvCxnSpPr>
          <p:nvPr/>
        </p:nvCxnSpPr>
        <p:spPr>
          <a:xfrm>
            <a:off x="2514240" y="2323800"/>
            <a:ext cx="1524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3" name="AutoShape 7"/>
          <p:cNvCxnSpPr>
            <a:stCxn id="331" idx="2"/>
            <a:endCxn id="330" idx="3"/>
          </p:cNvCxnSpPr>
          <p:nvPr/>
        </p:nvCxnSpPr>
        <p:spPr>
          <a:xfrm flipH="1">
            <a:off x="5180760" y="232380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4" name="Freeform 8"/>
          <p:cNvSpPr/>
          <p:nvPr/>
        </p:nvSpPr>
        <p:spPr>
          <a:xfrm rot="5400000">
            <a:off x="7467480" y="205704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2971800" y="167652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"/>
          <p:cNvSpPr/>
          <p:nvPr/>
        </p:nvSpPr>
        <p:spPr>
          <a:xfrm>
            <a:off x="8001000" y="1676520"/>
            <a:ext cx="838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1"/>
          <p:cNvSpPr/>
          <p:nvPr/>
        </p:nvSpPr>
        <p:spPr>
          <a:xfrm>
            <a:off x="152280" y="1676520"/>
            <a:ext cx="838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2"/>
          <p:cNvSpPr/>
          <p:nvPr/>
        </p:nvSpPr>
        <p:spPr>
          <a:xfrm>
            <a:off x="1371600" y="4038480"/>
            <a:ext cx="1143000" cy="1143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9" name="AutoShape 13"/>
          <p:cNvCxnSpPr>
            <a:stCxn id="338" idx="5"/>
          </p:cNvCxnSpPr>
          <p:nvPr/>
        </p:nvCxnSpPr>
        <p:spPr>
          <a:xfrm flipV="1">
            <a:off x="2228400" y="2894760"/>
            <a:ext cx="181044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AutoShape 14"/>
          <p:cNvCxnSpPr>
            <a:stCxn id="338" idx="0"/>
            <a:endCxn id="329" idx="2"/>
          </p:cNvCxnSpPr>
          <p:nvPr/>
        </p:nvCxnSpPr>
        <p:spPr>
          <a:xfrm flipV="1">
            <a:off x="1942920" y="289476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Freeform 15"/>
          <p:cNvSpPr/>
          <p:nvPr/>
        </p:nvSpPr>
        <p:spPr>
          <a:xfrm flipH="1" rot="16200000">
            <a:off x="761760" y="205704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16"/>
          <p:cNvSpPr/>
          <p:nvPr/>
        </p:nvSpPr>
        <p:spPr>
          <a:xfrm flipH="1" rot="10800000">
            <a:off x="1599120" y="51814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7"/>
          <p:cNvSpPr/>
          <p:nvPr/>
        </p:nvSpPr>
        <p:spPr>
          <a:xfrm>
            <a:off x="2895480" y="296712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8"/>
          <p:cNvSpPr/>
          <p:nvPr/>
        </p:nvSpPr>
        <p:spPr>
          <a:xfrm>
            <a:off x="1905120" y="320040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Object 19"/>
          <p:cNvGraphicFramePr/>
          <p:nvPr/>
        </p:nvGraphicFramePr>
        <p:xfrm>
          <a:off x="4381560" y="4827600"/>
          <a:ext cx="430524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4827600"/>
                    <a:ext cx="430524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Text Box 20"/>
          <p:cNvSpPr/>
          <p:nvPr/>
        </p:nvSpPr>
        <p:spPr>
          <a:xfrm>
            <a:off x="5715000" y="178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94E3-24A8-402C-82B9-EDFABD2A3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al Regression: Model with M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1371600" y="175248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038480" y="175248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AutoShape 5"/>
          <p:cNvCxnSpPr>
            <a:stCxn id="351" idx="3"/>
            <a:endCxn id="352" idx="1"/>
          </p:cNvCxnSpPr>
          <p:nvPr/>
        </p:nvCxnSpPr>
        <p:spPr>
          <a:xfrm>
            <a:off x="2514240" y="2323800"/>
            <a:ext cx="1524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4" name="Freeform 6"/>
          <p:cNvSpPr/>
          <p:nvPr/>
        </p:nvSpPr>
        <p:spPr>
          <a:xfrm rot="5400000">
            <a:off x="5105160" y="205704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2971800" y="167652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5638680" y="1676520"/>
            <a:ext cx="838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152280" y="1676520"/>
            <a:ext cx="838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0"/>
          <p:cNvSpPr/>
          <p:nvPr/>
        </p:nvSpPr>
        <p:spPr>
          <a:xfrm>
            <a:off x="1371600" y="4038480"/>
            <a:ext cx="1143000" cy="1143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AutoShape 11"/>
          <p:cNvCxnSpPr>
            <a:stCxn id="358" idx="5"/>
          </p:cNvCxnSpPr>
          <p:nvPr/>
        </p:nvCxnSpPr>
        <p:spPr>
          <a:xfrm flipV="1">
            <a:off x="2228400" y="2894760"/>
            <a:ext cx="181044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AutoShape 12"/>
          <p:cNvCxnSpPr>
            <a:stCxn id="358" idx="0"/>
            <a:endCxn id="351" idx="2"/>
          </p:cNvCxnSpPr>
          <p:nvPr/>
        </p:nvCxnSpPr>
        <p:spPr>
          <a:xfrm flipV="1">
            <a:off x="1942920" y="289476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1" name="Freeform 13"/>
          <p:cNvSpPr/>
          <p:nvPr/>
        </p:nvSpPr>
        <p:spPr>
          <a:xfrm flipH="1" rot="16200000">
            <a:off x="761760" y="205704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14"/>
          <p:cNvSpPr/>
          <p:nvPr/>
        </p:nvSpPr>
        <p:spPr>
          <a:xfrm flipH="1" rot="10800000">
            <a:off x="1599120" y="51814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5"/>
          <p:cNvSpPr/>
          <p:nvPr/>
        </p:nvSpPr>
        <p:spPr>
          <a:xfrm>
            <a:off x="2895480" y="293364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6"/>
          <p:cNvSpPr/>
          <p:nvPr/>
        </p:nvSpPr>
        <p:spPr>
          <a:xfrm>
            <a:off x="1905120" y="320040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Object 17"/>
          <p:cNvGraphicFramePr/>
          <p:nvPr/>
        </p:nvGraphicFramePr>
        <p:xfrm>
          <a:off x="4381560" y="4827600"/>
          <a:ext cx="430524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4827600"/>
                    <a:ext cx="430524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3A9F-3318-4F07-B401-B8EEDB726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al Regression: Shortened 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al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structural model has a set of structural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ce / covariance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estimate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between structural expectations (with estimated parameters) and observed statistics (e.g., covariances, means) is model mis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s can be calculated based on a path diagram or computed algebra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9538-D59F-4102-ADB8-9E09609AC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Oval 3"/>
          <p:cNvSpPr/>
          <p:nvPr/>
        </p:nvSpPr>
        <p:spPr>
          <a:xfrm>
            <a:off x="5486400" y="19810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4"/>
          <p:cNvSpPr/>
          <p:nvPr/>
        </p:nvSpPr>
        <p:spPr>
          <a:xfrm>
            <a:off x="2895480" y="19810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5"/>
          <p:cNvSpPr/>
          <p:nvPr/>
        </p:nvSpPr>
        <p:spPr>
          <a:xfrm>
            <a:off x="2895480" y="47242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6"/>
          <p:cNvSpPr/>
          <p:nvPr/>
        </p:nvSpPr>
        <p:spPr>
          <a:xfrm>
            <a:off x="5486400" y="47242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AutoShape 7"/>
          <p:cNvCxnSpPr>
            <a:stCxn id="375" idx="6"/>
            <a:endCxn id="374" idx="2"/>
          </p:cNvCxnSpPr>
          <p:nvPr/>
        </p:nvCxnSpPr>
        <p:spPr>
          <a:xfrm>
            <a:off x="3657600" y="2361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AutoShape 8"/>
          <p:cNvCxnSpPr>
            <a:stCxn id="376" idx="6"/>
            <a:endCxn id="377" idx="2"/>
          </p:cNvCxnSpPr>
          <p:nvPr/>
        </p:nvCxnSpPr>
        <p:spPr>
          <a:xfrm>
            <a:off x="3657600" y="5105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AutoShape 9"/>
          <p:cNvCxnSpPr>
            <a:stCxn id="376" idx="2"/>
            <a:endCxn id="375" idx="2"/>
          </p:cNvCxnSpPr>
          <p:nvPr/>
        </p:nvCxnSpPr>
        <p:spPr>
          <a:xfrm flipH="1" rot="10800000">
            <a:off x="2894400" y="2361600"/>
            <a:ext cx="2520" cy="2743920"/>
          </a:xfrm>
          <a:prstGeom prst="curvedConnector5">
            <a:avLst>
              <a:gd name="adj1" fmla="val -40600000"/>
              <a:gd name="adj2" fmla="val 49993"/>
              <a:gd name="adj3" fmla="val -40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1" name="AutoShape 10"/>
          <p:cNvCxnSpPr>
            <a:stCxn id="377" idx="5"/>
            <a:endCxn id="377" idx="3"/>
          </p:cNvCxnSpPr>
          <p:nvPr/>
        </p:nvCxnSpPr>
        <p:spPr>
          <a:xfrm rot="5400000">
            <a:off x="5865840" y="5105880"/>
            <a:ext cx="2520" cy="540360"/>
          </a:xfrm>
          <a:prstGeom prst="curvedConnector5">
            <a:avLst>
              <a:gd name="adj1" fmla="val 21400000"/>
              <a:gd name="adj2" fmla="val 50000"/>
              <a:gd name="adj3" fmla="val 21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2" name="AutoShape 11"/>
          <p:cNvCxnSpPr>
            <a:stCxn id="374" idx="1"/>
            <a:endCxn id="374" idx="7"/>
          </p:cNvCxnSpPr>
          <p:nvPr/>
        </p:nvCxnSpPr>
        <p:spPr>
          <a:xfrm flipH="1" rot="16200000">
            <a:off x="5866560" y="1823040"/>
            <a:ext cx="2160" cy="540360"/>
          </a:xfrm>
          <a:prstGeom prst="curvedConnector5">
            <a:avLst>
              <a:gd name="adj1" fmla="val -21400000"/>
              <a:gd name="adj2" fmla="val 50000"/>
              <a:gd name="adj3" fmla="val -21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3" name="AutoShape 12"/>
          <p:cNvCxnSpPr>
            <a:stCxn id="375" idx="1"/>
            <a:endCxn id="375" idx="7"/>
          </p:cNvCxnSpPr>
          <p:nvPr/>
        </p:nvCxnSpPr>
        <p:spPr>
          <a:xfrm flipH="1" rot="16200000">
            <a:off x="3275640" y="1823040"/>
            <a:ext cx="2160" cy="540360"/>
          </a:xfrm>
          <a:prstGeom prst="curvedConnector5">
            <a:avLst>
              <a:gd name="adj1" fmla="val -21400000"/>
              <a:gd name="adj2" fmla="val 50000"/>
              <a:gd name="adj3" fmla="val -21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4" name="AutoShape 13"/>
          <p:cNvCxnSpPr>
            <a:stCxn id="376" idx="3"/>
            <a:endCxn id="376" idx="5"/>
          </p:cNvCxnSpPr>
          <p:nvPr/>
        </p:nvCxnSpPr>
        <p:spPr>
          <a:xfrm flipH="1" rot="16200000">
            <a:off x="3274560" y="5105880"/>
            <a:ext cx="2520" cy="540360"/>
          </a:xfrm>
          <a:prstGeom prst="curvedConnector5">
            <a:avLst>
              <a:gd name="adj1" fmla="val 21400000"/>
              <a:gd name="adj2" fmla="val 50000"/>
              <a:gd name="adj3" fmla="val 21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85" name="Text Box 14"/>
          <p:cNvSpPr/>
          <p:nvPr/>
        </p:nvSpPr>
        <p:spPr>
          <a:xfrm>
            <a:off x="5943600" y="14479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5"/>
          <p:cNvSpPr/>
          <p:nvPr/>
        </p:nvSpPr>
        <p:spPr>
          <a:xfrm>
            <a:off x="3352680" y="14479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6"/>
          <p:cNvSpPr/>
          <p:nvPr/>
        </p:nvSpPr>
        <p:spPr>
          <a:xfrm>
            <a:off x="5943600" y="54100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7"/>
          <p:cNvSpPr/>
          <p:nvPr/>
        </p:nvSpPr>
        <p:spPr>
          <a:xfrm>
            <a:off x="3352680" y="54100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8"/>
          <p:cNvSpPr/>
          <p:nvPr/>
        </p:nvSpPr>
        <p:spPr>
          <a:xfrm>
            <a:off x="4343400" y="46483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9"/>
          <p:cNvSpPr/>
          <p:nvPr/>
        </p:nvSpPr>
        <p:spPr>
          <a:xfrm>
            <a:off x="4343400" y="19051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0"/>
          <p:cNvSpPr/>
          <p:nvPr/>
        </p:nvSpPr>
        <p:spPr>
          <a:xfrm>
            <a:off x="2209680" y="33526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1,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AutoShape 21"/>
          <p:cNvCxnSpPr>
            <a:stCxn id="376" idx="7"/>
            <a:endCxn id="374" idx="3"/>
          </p:cNvCxnSpPr>
          <p:nvPr/>
        </p:nvCxnSpPr>
        <p:spPr>
          <a:xfrm flipV="1">
            <a:off x="3546360" y="2631240"/>
            <a:ext cx="2052000" cy="22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3" name="Text Box 22"/>
          <p:cNvSpPr/>
          <p:nvPr/>
        </p:nvSpPr>
        <p:spPr>
          <a:xfrm>
            <a:off x="4343400" y="36576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4890-3914-460F-A9E0-DC3E98C84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ing Covariance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Object 3"/>
          <p:cNvGraphicFramePr/>
          <p:nvPr/>
        </p:nvGraphicFramePr>
        <p:xfrm>
          <a:off x="1774800" y="1711440"/>
          <a:ext cx="2468520" cy="57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4800" y="1711440"/>
                    <a:ext cx="246852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4"/>
          <p:cNvGraphicFramePr/>
          <p:nvPr/>
        </p:nvGraphicFramePr>
        <p:xfrm>
          <a:off x="1784520" y="2352600"/>
          <a:ext cx="7327800" cy="115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84520" y="2352600"/>
                    <a:ext cx="732780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5"/>
          <p:cNvGraphicFramePr/>
          <p:nvPr/>
        </p:nvGraphicFramePr>
        <p:xfrm>
          <a:off x="1585800" y="4944960"/>
          <a:ext cx="4675320" cy="60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85800" y="4944960"/>
                    <a:ext cx="46753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6"/>
          <p:cNvGraphicFramePr/>
          <p:nvPr/>
        </p:nvGraphicFramePr>
        <p:xfrm>
          <a:off x="1635120" y="5648400"/>
          <a:ext cx="5603760" cy="59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35120" y="5648400"/>
                    <a:ext cx="560376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7"/>
          <p:cNvGraphicFramePr/>
          <p:nvPr/>
        </p:nvGraphicFramePr>
        <p:xfrm>
          <a:off x="1600200" y="4367160"/>
          <a:ext cx="2819520" cy="617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00200" y="4367160"/>
                    <a:ext cx="281952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Text Box 8"/>
          <p:cNvSpPr/>
          <p:nvPr/>
        </p:nvSpPr>
        <p:spPr>
          <a:xfrm>
            <a:off x="685800" y="11271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Variance Expectations (Selected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685800" y="36496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variance Expectations (Selected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9443-6035-4396-AEBB-42E734BC3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ing Covariance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Oval 3"/>
          <p:cNvSpPr/>
          <p:nvPr/>
        </p:nvSpPr>
        <p:spPr>
          <a:xfrm>
            <a:off x="6477120" y="1981080"/>
            <a:ext cx="76176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4"/>
          <p:cNvSpPr/>
          <p:nvPr/>
        </p:nvSpPr>
        <p:spPr>
          <a:xfrm>
            <a:off x="3886200" y="19810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5"/>
          <p:cNvSpPr/>
          <p:nvPr/>
        </p:nvSpPr>
        <p:spPr>
          <a:xfrm>
            <a:off x="3886200" y="47242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6"/>
          <p:cNvSpPr/>
          <p:nvPr/>
        </p:nvSpPr>
        <p:spPr>
          <a:xfrm>
            <a:off x="6477120" y="4724280"/>
            <a:ext cx="76176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6" name="AutoShape 7"/>
          <p:cNvCxnSpPr>
            <a:stCxn id="413" idx="6"/>
            <a:endCxn id="412" idx="2"/>
          </p:cNvCxnSpPr>
          <p:nvPr/>
        </p:nvCxnSpPr>
        <p:spPr>
          <a:xfrm>
            <a:off x="4648320" y="2361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AutoShape 8"/>
          <p:cNvCxnSpPr>
            <a:stCxn id="414" idx="6"/>
            <a:endCxn id="415" idx="2"/>
          </p:cNvCxnSpPr>
          <p:nvPr/>
        </p:nvCxnSpPr>
        <p:spPr>
          <a:xfrm>
            <a:off x="4648320" y="5105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8" name="Text Box 9"/>
          <p:cNvSpPr/>
          <p:nvPr/>
        </p:nvSpPr>
        <p:spPr>
          <a:xfrm>
            <a:off x="5334120" y="46483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0"/>
          <p:cNvSpPr/>
          <p:nvPr/>
        </p:nvSpPr>
        <p:spPr>
          <a:xfrm>
            <a:off x="5334120" y="19051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1"/>
          <p:cNvSpPr/>
          <p:nvPr/>
        </p:nvSpPr>
        <p:spPr>
          <a:xfrm rot="16200000">
            <a:off x="1905120" y="3238560"/>
            <a:ext cx="914400" cy="8380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AutoShape 12"/>
          <p:cNvCxnSpPr>
            <a:stCxn id="420" idx="3"/>
            <a:endCxn id="413" idx="2"/>
          </p:cNvCxnSpPr>
          <p:nvPr/>
        </p:nvCxnSpPr>
        <p:spPr>
          <a:xfrm flipV="1">
            <a:off x="2781000" y="2361960"/>
            <a:ext cx="110556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AutoShape 13"/>
          <p:cNvCxnSpPr>
            <a:stCxn id="420" idx="3"/>
            <a:endCxn id="414" idx="1"/>
          </p:cNvCxnSpPr>
          <p:nvPr/>
        </p:nvCxnSpPr>
        <p:spPr>
          <a:xfrm>
            <a:off x="2781360" y="3657600"/>
            <a:ext cx="1216800" cy="117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3" name="Text Box 14"/>
          <p:cNvSpPr/>
          <p:nvPr/>
        </p:nvSpPr>
        <p:spPr>
          <a:xfrm>
            <a:off x="3352680" y="26668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5"/>
          <p:cNvSpPr/>
          <p:nvPr/>
        </p:nvSpPr>
        <p:spPr>
          <a:xfrm>
            <a:off x="3352680" y="38862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16"/>
          <p:cNvSpPr/>
          <p:nvPr/>
        </p:nvSpPr>
        <p:spPr>
          <a:xfrm flipH="1" rot="16200000">
            <a:off x="1713240" y="3466800"/>
            <a:ext cx="457200" cy="38124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AutoShape 17"/>
          <p:cNvCxnSpPr>
            <a:stCxn id="414" idx="7"/>
            <a:endCxn id="412" idx="3"/>
          </p:cNvCxnSpPr>
          <p:nvPr/>
        </p:nvCxnSpPr>
        <p:spPr>
          <a:xfrm flipV="1">
            <a:off x="4536720" y="2631240"/>
            <a:ext cx="2051640" cy="22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7" name="Text Box 18"/>
          <p:cNvSpPr/>
          <p:nvPr/>
        </p:nvSpPr>
        <p:spPr>
          <a:xfrm>
            <a:off x="5410080" y="36576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CD30-1EB0-48CD-A4F0-4174DC30D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ing Mean Expect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Object 3"/>
          <p:cNvGraphicFramePr/>
          <p:nvPr/>
        </p:nvGraphicFramePr>
        <p:xfrm>
          <a:off x="846000" y="1704960"/>
          <a:ext cx="3489480" cy="12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1704960"/>
                    <a:ext cx="348948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Object 4"/>
          <p:cNvGraphicFramePr/>
          <p:nvPr/>
        </p:nvGraphicFramePr>
        <p:xfrm>
          <a:off x="838080" y="3657600"/>
          <a:ext cx="7508880" cy="171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657600"/>
                    <a:ext cx="750888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C50E-61A4-43F4-B95A-05E055174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an Squares and Mean Expect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1371600" y="53352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4038480" y="53352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4"/>
          <p:cNvSpPr/>
          <p:nvPr/>
        </p:nvSpPr>
        <p:spPr>
          <a:xfrm>
            <a:off x="6477120" y="533520"/>
            <a:ext cx="1143000" cy="1143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1" name="AutoShape 5"/>
          <p:cNvCxnSpPr>
            <a:stCxn id="438" idx="3"/>
            <a:endCxn id="439" idx="1"/>
          </p:cNvCxnSpPr>
          <p:nvPr/>
        </p:nvCxnSpPr>
        <p:spPr>
          <a:xfrm>
            <a:off x="2514240" y="1104480"/>
            <a:ext cx="1524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AutoShape 6"/>
          <p:cNvCxnSpPr>
            <a:stCxn id="440" idx="2"/>
            <a:endCxn id="439" idx="3"/>
          </p:cNvCxnSpPr>
          <p:nvPr/>
        </p:nvCxnSpPr>
        <p:spPr>
          <a:xfrm flipH="1">
            <a:off x="5180760" y="110448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3" name="Freeform 7"/>
          <p:cNvSpPr/>
          <p:nvPr/>
        </p:nvSpPr>
        <p:spPr>
          <a:xfrm rot="5400000">
            <a:off x="7467480" y="8380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971800" y="45720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1"/>
          <p:cNvSpPr/>
          <p:nvPr/>
        </p:nvSpPr>
        <p:spPr>
          <a:xfrm>
            <a:off x="1371600" y="2819520"/>
            <a:ext cx="1143000" cy="1143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6" name="AutoShape 12"/>
          <p:cNvCxnSpPr>
            <a:stCxn id="445" idx="5"/>
          </p:cNvCxnSpPr>
          <p:nvPr/>
        </p:nvCxnSpPr>
        <p:spPr>
          <a:xfrm flipV="1">
            <a:off x="2228400" y="1676160"/>
            <a:ext cx="1810440" cy="171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7" name="AutoShape 13"/>
          <p:cNvCxnSpPr>
            <a:stCxn id="445" idx="0"/>
            <a:endCxn id="438" idx="2"/>
          </p:cNvCxnSpPr>
          <p:nvPr/>
        </p:nvCxnSpPr>
        <p:spPr>
          <a:xfrm flipV="1">
            <a:off x="1942920" y="167580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8" name="Freeform 14"/>
          <p:cNvSpPr/>
          <p:nvPr/>
        </p:nvSpPr>
        <p:spPr>
          <a:xfrm flipH="1" rot="16200000">
            <a:off x="761760" y="8380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15"/>
          <p:cNvSpPr/>
          <p:nvPr/>
        </p:nvSpPr>
        <p:spPr>
          <a:xfrm flipH="1" rot="10800000">
            <a:off x="1599120" y="3962160"/>
            <a:ext cx="685800" cy="53316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6"/>
          <p:cNvSpPr/>
          <p:nvPr/>
        </p:nvSpPr>
        <p:spPr>
          <a:xfrm>
            <a:off x="2895480" y="169236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7"/>
          <p:cNvSpPr/>
          <p:nvPr/>
        </p:nvSpPr>
        <p:spPr>
          <a:xfrm>
            <a:off x="1905120" y="198108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8"/>
          <p:cNvSpPr/>
          <p:nvPr/>
        </p:nvSpPr>
        <p:spPr>
          <a:xfrm>
            <a:off x="5715000" y="563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Object 19"/>
          <p:cNvGraphicFramePr/>
          <p:nvPr/>
        </p:nvGraphicFramePr>
        <p:xfrm>
          <a:off x="5127480" y="3376440"/>
          <a:ext cx="330840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7480" y="3376440"/>
                    <a:ext cx="330840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Object 20"/>
          <p:cNvGraphicFramePr/>
          <p:nvPr/>
        </p:nvGraphicFramePr>
        <p:xfrm>
          <a:off x="5067360" y="4308480"/>
          <a:ext cx="192708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6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67360" y="4308480"/>
                    <a:ext cx="192708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21"/>
          <p:cNvGraphicFramePr/>
          <p:nvPr/>
        </p:nvGraphicFramePr>
        <p:xfrm>
          <a:off x="5092560" y="2889360"/>
          <a:ext cx="1624320" cy="47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8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92560" y="2889360"/>
                    <a:ext cx="16243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Text Box 22"/>
          <p:cNvSpPr/>
          <p:nvPr/>
        </p:nvSpPr>
        <p:spPr>
          <a:xfrm>
            <a:off x="4724280" y="24382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ed Vari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3"/>
          <p:cNvSpPr/>
          <p:nvPr/>
        </p:nvSpPr>
        <p:spPr>
          <a:xfrm>
            <a:off x="4724280" y="3886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ed Covari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1" name="Object 24"/>
          <p:cNvGraphicFramePr/>
          <p:nvPr/>
        </p:nvGraphicFramePr>
        <p:xfrm>
          <a:off x="4965840" y="5827680"/>
          <a:ext cx="2336760" cy="46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2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65840" y="5827680"/>
                    <a:ext cx="23367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Object 25"/>
          <p:cNvGraphicFramePr/>
          <p:nvPr/>
        </p:nvGraphicFramePr>
        <p:xfrm>
          <a:off x="5029200" y="5326200"/>
          <a:ext cx="1447920" cy="47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4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326200"/>
                    <a:ext cx="144792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Text Box 26"/>
          <p:cNvSpPr/>
          <p:nvPr/>
        </p:nvSpPr>
        <p:spPr>
          <a:xfrm>
            <a:off x="4724280" y="49132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ed Me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0F4F-7F4F-4A87-B044-46B130241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Object 3"/>
          <p:cNvGraphicFramePr/>
          <p:nvPr/>
        </p:nvGraphicFramePr>
        <p:xfrm>
          <a:off x="363600" y="506520"/>
          <a:ext cx="503280" cy="530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9" name="Object 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3600" y="506520"/>
                    <a:ext cx="503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Object 30"/>
          <p:cNvGraphicFramePr/>
          <p:nvPr/>
        </p:nvGraphicFramePr>
        <p:xfrm>
          <a:off x="8061480" y="428760"/>
          <a:ext cx="511200" cy="608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71" name="Object 3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061480" y="428760"/>
                    <a:ext cx="5112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gebraic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s can be calculated using symbolic matrix alge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 involved for “Intro to SE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ields same expectations as do tracing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helpful for very complex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sponds to what is going on “under the hood” as programs fit models to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41AD-C6E8-4C14-AB19-42D3154D7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rious Definitions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 statistical statement about relations among chosen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zed pattern of (linear) relations among a set of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 of statistical techniques that allow examination of sets of relations among one or more IVs (continuous or discrete) and one or more DVs (continuous or discre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830C-220D-4675-AF08-EC8DE969C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M Program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&amp; Modeling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9A8C-1D3D-4158-9A54-67613F35C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EM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general program, several distinct 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R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SEM program, commonly used 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use, words with SP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through 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v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good program, available through R (and fre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D4D4-0235-4E98-8FF8-4E5A3E930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a for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rly, used summary data (correlations, covariances, me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rograms now read “raw”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start with covariance mat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ardless of data (raw data, covariance matrices), be sure to export data from commonly used stat package (SAS, SPSS, R, St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check your data after SEM program reads data to make sure everything m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B4C1-C74A-494E-A89A-8F3469F67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s in Statistical Analysis: SEER _ M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: Specification – develop equations that match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etical conje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: Estimation – obtain best-fit parameter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: Evaluation – evaluate overall model fit, evaluate a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er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: Readjustment – re-specify model to yield better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irical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tical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: Model Comparison – compare fit of alternative models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step added by 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3B04-0BCD-4F88-AC3D-C70875CDB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ing Model (Mis)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fit models to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ed model will not fit data perf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ors of model mis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ors of model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E1E4-352E-4AF0-9900-5B011E7AB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ing Model (Mis)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(Mis)fit: Statistical indicator of mis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-square value based on misfit to data, so higher chi-square is not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ees of freedom (df): Difference between number of sample statistics (covariances, plus means [if modeled]) and number of parameters 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 chi-square provides statistical basis for rejecting model in favor of an unspecified alter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different alternative estimators (e.g., robu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deal with simple maximum likelihood (ML) chi-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9089-050F-4FD1-BD3C-71B9851AD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ing Model (Mis)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(Mis)fit: Absolute misfit (higher levels b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Mean Square Error of Approximation (RMS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 estim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EA      &lt; .05: Clos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EA .05 - .08: Acceptabl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EA .08 - .10: Poor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EA      &gt; .10: Unacceptabl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val estim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lower bound includes .05, cannot reject clos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ized root mean residual (SRMR) corre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 estimate: &lt; .06: Clos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D553-6CD6-4621-BF30-2677D3292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ing Model (Mis)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(Mis)fit: Relative fit, or fit relative to null model, so higher levels are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cker-Lewis index (T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I      &gt; .95: Clos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I .90 - .95: Acceptabl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I      &lt; .90: Unacceptabl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, do not use these as hard-and-fast cutoffs (!#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tive fit index (CF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ly, same cutoffs as the T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FI seems less sensitive to model comparisons than does T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Widaman &amp; Thompson (2003, Psychological Methods) for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2826-8DFA-498A-A786-095BB6AD4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M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1D90-41FB-4297-A1C8-43B43EC47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ckhoff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767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ade bo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ther’s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ther’s occupational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grade point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educational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occupational aspi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42AB-9A69-4F14-BC52-7DAC75093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Advantages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icit representation of theory (no default mod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ations of complex multivariate theories involving latent entitie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and indirect effects can be teased a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 / comparison of multipl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ular variables can be both outcomes (DVs) and predictors (IVs) in the sam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data are easy to handle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B889-2442-476C-95CE-2B97FB3B4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ckhoff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dad_ed dad_occ grades ed_exp  asp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1.000  0.277   0.250  0.572  0.489  0.3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0.277  1.000   0.611  0.294  0.446  0.3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0.250  0.611   1.000  0.248  0.410  0.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0.572  0.294   0.248  1.000  0.597  0.4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0.489  0.446   0.410  0.597  1.000  0.6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  0.335  0.303   0.331  0.478  0.651  1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C444-D7B5-497B-934F-B492A911D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z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FEB4-60DE-4614-B5A7-25BAECE05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47072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a priori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1.lv = 'int    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dad_ed +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grades + int + dad_ed +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~ grades + int + dad_occ +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~~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~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~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~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~ asp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oc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3EA8-0713-488E-B6D1-0284E9B37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277    0.035    7.984    0.000    0.277    0.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47    0.030    4.835    0.000    0.147    0.1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531    0.030   17.498    0.000    0.531    0.5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410    0.032   12.622    0.000    0.410    0.4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164    0.032    5.089    0.000    0.164    0.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86    0.034    5.417    0.000    0.186    0.1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153    0.033    4.627    0.000    0.153    0.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156    0.037    4.262    0.000    0.156    0.1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-0.041    0.034   -1.209    0.227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-0.041   -0.0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079    0.029    2.711    0.007    0.079    0.0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         0.545    0.036   14.983    0.000    0.545    0.5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610    0.042   14.440    0.000    0.610    0.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506E-4443-478F-89B6-A685681EF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0716-6699-4B34-865A-78CE2AEC0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5, .09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drop 1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2.lv = 'int    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dad_ed +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grades + int + dad_ed +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~ grades +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0*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dad_occ + ed_exp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~~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~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~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~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~ asp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oc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8D8B-C512-4ECA-BD63-7D843E007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277    0.035    7.984    0.000    0.277    0.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47    0.030    4.835    0.000    0.147    0.1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531    0.030   17.498    0.000    0.531    0.5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410    0.032   12.622    0.000    0.410    0.4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164    0.032    5.089    0.000    0.164    0.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86    0.034    5.417    0.000    0.186    0.1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153    0.033    4.627    0.000    0.153    0.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138    0.033    4.134    0.000    0.138    0.1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77    0.029    2.628    0.009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77    0.0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         0.537    0.036   15.040    0.000    0.537    0.5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610    0.042   14.440    0.000    0.610    0.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36C6-68AF-4876-93EA-CB4FCF9E2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D934-8757-4B24-9928-662850F8F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63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5, .09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5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2, .087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382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8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drop 2nd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3.lv = 'int    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dad_ed +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grades + int + dad_ed +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~ grades +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0*int + 0*dad_occ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+ ed_ex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~~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~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~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~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~ asp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oc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80F1-158A-4D5F-A406-9C39D6DE9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277    0.035    7.984    0.000    0.277    0.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47    0.030    4.835    0.000    0.147    0.1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531    0.030   17.498    0.000    0.531    0.5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410    0.032   12.622    0.000    0.410    0.4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164    0.032    5.089    0.000    0.164    0.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86    0.034    5.417    0.000    0.186    0.1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153    0.033    4.627    0.000    0.153    0.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139    0.034    4.134    0.000    0.139    0.1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         0.568    0.034   16.807    0.000    0.568    0.5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610    0.042   14.440    0.000    0.610    0.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33C9-2E3C-4F37-B774-A2018D23E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Disadvantages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for (strong) substantive theory regarding relations among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large sample size (usua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basic understanding of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ield to temptation, “when the tail wags the do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ure to consider equivalent models weakens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s too easily to statements regarding caus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BA38-97F0-4243-B54B-1C89B63E2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E5A7-67B1-454F-B7C4-ED4EB2746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63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29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5, .09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5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2, .087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382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34, .09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26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8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3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6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4 – equate 2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4.lv = 'int    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dad_ed +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grades + int + dad_ed +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~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b1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*grade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0*int + 0*dad_occ +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b1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*ed_ex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 using same "name" for coe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~~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~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~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~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~ asp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oc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855F-1021-40FF-9B0F-520CFEE27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277    0.035    7.984    0.000    0.277    0.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47    0.030    4.835    0.000    0.147    0.1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531    0.030   17.498    0.000    0.531    0.5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410    0.032   12.622    0.000    0.410    0.4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164    0.032    5.089    0.000    0.164    0.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86    0.034    5.417    0.000    0.186    0.1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153    0.033    4.627    0.000    0.153    0.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b1)    0.353    0.016   22.450    0.000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.353    0.3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000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000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b1)    0.353    0.016   22.450    0.000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.353    0.3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610    0.042   14.440    0.000    0.610    0.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945D-7F19-4C51-8BF5-7FC5337A6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97DB-0966-4EBC-98F9-41AF75E3D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63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29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8.21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5, .09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5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2, .087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382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34, .09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26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1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92, .142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8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3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6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8.9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ckhoff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 fit is fine, but one non-significant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2 is probably the optim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, given its greater parsimony, is attr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4 had much worse fit, so unacceptable on all 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let’s look at Model 2, with 4 sizeabl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ther’s education direct effect on son’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intelligence direct effect on his gr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grades direct effect on educational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educational expectations direct effect on occupational aspi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1190-1462-439E-928B-11BA61B4E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4EA7-96FA-4D1F-A6A0-50128E68A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3" descr=""/>
          <p:cNvPicPr/>
          <p:nvPr/>
        </p:nvPicPr>
        <p:blipFill>
          <a:blip r:embed="rId1"/>
          <a:stretch/>
        </p:blipFill>
        <p:spPr>
          <a:xfrm>
            <a:off x="1492200" y="1600200"/>
            <a:ext cx="658512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4388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ade bo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ntal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cioeconomic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ademic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ificant other infl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ucational aspi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4BAB-788F-4DA5-97F4-FFB6F19D4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SES   AP    SO    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1.000 0.288 0.589 0.438 0.4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0.288 1.000 0.194 0.359 0.3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0.589 0.194 1.000 0.473 0.4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 0.438 0.359 0.473 1.000 0.6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d_aspir  0.418 0.380 0.459 0.611 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de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SES    AP    SO    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D        29.17 11.08 27.05  1.71  0.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94AF-48B0-43C4-BB7D-E2307833F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z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94D5-8A7A-486D-BB53-6A74588B9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1143000" y="1725480"/>
            <a:ext cx="7010280" cy="451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ty little secret/assumption about regressi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pendent variables are measured without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this assumption is not met with these data: All variables in this model are measured with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lear what effect this might have on model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see what happen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284E-F9F6-46CD-A403-E3A84B896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ecial Cases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linear model (t-tests, regression, multiple regression, ANOVA, ANCOVA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rmatory fact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nt variable path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itudinal data analytic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-order autoregressive and cross-lagge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growth curv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difference scor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31FE-F837-4D06-9480-AE2F8729F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a priori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1.mv = 'ap ~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~ ma + sesr + 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~ ap + 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~~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~~ 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~~ 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~~ ea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71C2-B2E0-4696-AEAB-E27600543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p ~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            0.546    0.011   48.280    0.000    0.546    0.5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 ~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            0.010    0.001   11.260    0.000    0.010    0.1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             0.038    0.002   18.848    0.000    0.038    0.2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             0.020    0.001   20.745    0.000    0.020    0.3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a ~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             0.008    0.000   16.699    0.000    0.008    0.2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             0.280    0.007   38.617    0.000    0.280    0.5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 ~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            93.113    5.079   18.333    0.000   93.113    0.2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2B9F-34F5-4957-BA83-21118F635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27BC-F2C2-4A93-BEC7-B7F2E2C90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nesty is the best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honest about what you are doing, which 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re elaborate graphic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re elaborate (but more adaptable) model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see what this looks lik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365B-939A-4C33-9DD7-002F547C3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” hypothesized model: Mod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EF82-A10D-4EAD-920F-2947DE423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1698480" y="1523880"/>
            <a:ext cx="653112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“real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2.lv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=~ 1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=~ 1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=~ 1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=~ 1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=~ 1*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no means are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  #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~~ 0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0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~~ 0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~~ 0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~~ 0*e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57C2-D904-4C99-8A51-6EDF2D261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“real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means of LVs in Alpha (A)        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again, no means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~ 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~ 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~ edas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 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 mentabil + ses + 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                  acadperf + 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F89C-E3E1-4A2C-9F31-99B40AD62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        0.546    0.011   48.280    0.000    0.589    0.5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        0.010    0.001   11.260    0.000    0.179    0.1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        0.038    0.002   18.848    0.000    0.246    0.2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        0.020    0.001   20.745    0.000    0.321    0.3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        0.008    0.000   16.699    0.000    0.219    0.2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         0.280    0.007   38.617    0.000    0.507    0.5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       93.113    5.079   18.333    0.000    0.288    0.2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D15E-74F1-4418-B8E3-A71A22C37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3407-07D6-4B00-85A9-D8F9E7CE4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, with expanded representation, for Model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 specification, correct for un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“residual” variance of MVs to unreliable vari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reliability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de: KR20 and KR21 reliability coefficients were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mulas in Kuder &amp; Richardson (19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W1 estimate of reliability = first thing that popped into Keith Widaman’s head when he read about M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H2 estimate of reliability = second thoughts on reliability by Jonathan Helm, a former grad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F93D-12C9-4D4F-B5C5-0212169BC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8" name="Object 2"/>
          <p:cNvGraphicFramePr/>
          <p:nvPr/>
        </p:nvGraphicFramePr>
        <p:xfrm>
          <a:off x="1676520" y="2514600"/>
          <a:ext cx="434628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14600"/>
                    <a:ext cx="43462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EM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R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S Proc C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M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BB79-6DAD-482B-B163-FD9DDC384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572000" y="1066680"/>
            <a:ext cx="4419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a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Com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at RAMO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: lava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, use let’s perform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KW1   JH2    Unrel. var = (1 - rxx) * variance of M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9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ame    for ma  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9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850.597 =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51.03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85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ame    for sesr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8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122.944 =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8.44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 .90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7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for ap  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7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731.703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19.51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 .70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6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for so  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6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  2.924 =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.11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6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ame    for ma  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6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  0.887 =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.31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, use above calculations in model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2AA7-E749-46AD-9C62-51D48B6B9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“corrected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3.lv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=~ 1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=~ 1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=~ 1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=~ 1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=~ 1*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no means are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~~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51.0358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18.4416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~~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219.5108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~~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1.1112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~~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0.3195*e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1FDF-A74F-4B4A-B3B6-8F37B7CB5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“corrected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means of LVs in Alpha (A)  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again, no means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start(799.34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tart(104.47)*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tart(093.36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~ start(241.51)*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~ start(000.64)*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~ start(000.02)*edas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 start(0.582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 start(0.001)*mentabil + start(0.046)*ses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(0.038)*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 start(-.002)*acadperf + start(0.577)*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DF07-C03C-4447-A7FD-DD1553D95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B29A-E4E3-4548-9067-5021DFC3E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00, .03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        0.582    0.012   48.247    0.000    0.727    0.7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-0.000    0.001   -0.365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0.715   -0.010   -0.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        0.046    0.002   20.915    0.000    0.354    0.3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        0.038    0.002   20.607    0.000    0.647    0.6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-0.002    0.001   -1.713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87   -0.063   -0.0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         0.577    0.022   26.241    0.000    1.025    1.0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       93.356    5.075   18.394    0.000    0.323    0.3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0D54-ECAE-4557-A78C-D88A82A26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is data s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1, 2, and 3 are “the same model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equal number of path coefficients, hence 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1 and 2 lea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cal fit: mixed, generally unaccep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cal parameter estimates, and SEs: all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 has alter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t: now acceptable on all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 estimates and 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, two estimates are non-significa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s to Model 4, dropping two path coeffic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0A5C-D344-4EC4-956F-20B54AFA5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4 – final trimm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4.lv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=~ 1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=~ 1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=~ 1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=~ 1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=~ 1*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no means are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~~  51.0358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 18.4416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~~ 219.5108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~~   1.1112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~~   0.3195*e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850C-CE3D-46CB-97CF-F461FE00B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4 – final trimm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means of LVs in Alpha (A)  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again, no means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start(799.34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tart(104.47)*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tart(093.36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~ start(241.51)*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~ start(000.64)*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~ start(000.02)*edas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acadperf ~ start(0.582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sigother ~ start(0.046)*ses + start(0.038)*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edaspire ~ start(0.577)*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A02B-4A0D-400B-8E46-DE6831B92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F379-DAE7-4169-86B3-9DF5579F3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1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00, .03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00, .026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 and 2 generally un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 is surely 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mmed Model 4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simonio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path coefficient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tal ability to academic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S and academic performance to significant others’ infl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 other’s influence to educational aspi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FF6D-4DFF-4DBB-A604-9D13230E7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lying Princi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SEM concerns relations among variables, emphasis often centers on covariance mat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s can be added to models, needed for som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ritten at level of observations (!), so can be fit to raw scores for per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zed model attempts to explain associations present in data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rsimo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ch between observed data and hypothesized model is referred to as Model Fit (e.g., fit statist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 used most profitably when comparing fit of alternativ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6B3B-048B-4B9E-B3DC-81328D1EC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Model 4, raw score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C445-88B5-438E-84E5-82FCF125E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3" descr=""/>
          <p:cNvPicPr/>
          <p:nvPr/>
        </p:nvPicPr>
        <p:blipFill>
          <a:blip r:embed="rId1"/>
          <a:stretch/>
        </p:blipFill>
        <p:spPr>
          <a:xfrm>
            <a:off x="1447920" y="1843200"/>
            <a:ext cx="5867280" cy="42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Model 4, standardized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E99A-7FF4-4848-9B87-A2479A3F7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3" descr=""/>
          <p:cNvPicPr/>
          <p:nvPr/>
        </p:nvPicPr>
        <p:blipFill>
          <a:blip r:embed="rId1"/>
          <a:stretch/>
        </p:blipFill>
        <p:spPr>
          <a:xfrm>
            <a:off x="1447920" y="1835280"/>
            <a:ext cx="586728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(1939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301 junior high school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: 9 ability variables (selected from 26),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tial ability (S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ual perception, cubes, loz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bal comprehension (V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graph comprehension, sentence comprehension, word mea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ptual speed (P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tion, counting dots, straight-and-curved capital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2D74-0BC7-4360-A2A9-CCA4A4697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(1939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s we might as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single factor adequate to represent covariances among the 9 manifest variab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hypothesized 3-factor structure fit be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hypothesized 3-factor structure fit well enough or does it need modifi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we identify a general factor from these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a figural portrayal of the model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7F10-FECB-4245-ACF5-8D78619CD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data: Gener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5B7C-8334-45E8-B05A-B30503A22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2" descr=""/>
          <p:cNvPicPr/>
          <p:nvPr/>
        </p:nvPicPr>
        <p:blipFill>
          <a:blip r:embed="rId1"/>
          <a:stretch/>
        </p:blipFill>
        <p:spPr>
          <a:xfrm>
            <a:off x="1676520" y="2728800"/>
            <a:ext cx="6476760" cy="31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6104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data: General model with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8786-5B50-4406-94B5-0B1AF0C83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3" descr=""/>
          <p:cNvPicPr/>
          <p:nvPr/>
        </p:nvPicPr>
        <p:blipFill>
          <a:blip r:embed="rId1"/>
          <a:stretch/>
        </p:blipFill>
        <p:spPr>
          <a:xfrm>
            <a:off x="952560" y="1731960"/>
            <a:ext cx="7238880" cy="46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a priori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s.model1 =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loadings of MVs on LVs in Lambda (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 =~ visperc  + cubes    + loz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  =~ paracomp + sentcomp + word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=~ addition + countdot + scc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t1 = cfa(hs.model1, data = hs39ra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mmary(fit1, fit.measures = TRUE, standardized = TR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spect(fit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I1 = modificationIndices(fit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et(MI1, mi &gt; 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7D35-0626-4E0B-9AA8-BA8AACF87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345B-73E1-43B7-94CA-8E62A9FEC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5.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9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71, .11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9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tent Variables: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=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isperc           1.000                               5.398    0.7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bes             0.369    0.066    5.554    0.000    1.992    0.4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zenges          0.972    0.145    6.685    0.000    5.249    0.5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=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acomp          1.000                               2.969    0.8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tcomp          1.484    0.087   17.014    0.000    4.406    0.8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mean          2.161    0.129   16.703    0.000    6.416    0.8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ition          1.000                              14.248    0.5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dot          1.026    0.143    7.152    0.000   14.619    0.7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caps            1.693    0.237    7.155    0.000   24.119    0.6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~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           7.348    1.323    5.552    0.000    0.459    0.4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        36.187    7.766    4.660    0.000    0.471    0.4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        11.971    3.403    3.518    0.000    0.283    0.2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B11F-67C1-47DF-8648-5B7FBF8DA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I1 = modificationIndices(fit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subset(MI1, mi &gt; 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hs op      rhs     mi      epc  sepc.lv sepc.all sepc.n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8  spatial =~ addition 18.631   -1.617   -8.729   -0.349   -0.3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0  spatial =~   sccaps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36.41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3.462   18.688    0.515    0.5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76 addition ~~ countdot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34.145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246.764  246.764    0.488    0.4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78 countdot ~~   sccaps 14.946 -304.628 -304.628   -0.415   -0.4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C3B1-4888-43E8-9055-6E2C120DB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ith Widaman</dc:creator>
  <dc:description/>
  <dc:language>en-US</dc:language>
  <cp:lastModifiedBy>GRAD QUANT</cp:lastModifiedBy>
  <dcterms:modified xsi:type="dcterms:W3CDTF">2016-05-11T19:18:29Z</dcterms:modified>
  <cp:revision>1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